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7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1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6.wmf" ContentType="image/x-wmf"/>
  <Override PartName="/ppt/media/image11.png" ContentType="image/png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4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DC30-05A8-421E-A37E-AB43F6FF24C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88589-3914-4363-8643-6E586323D12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022400" y="730080"/>
            <a:ext cx="4811760" cy="360864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2960" y="4587840"/>
            <a:ext cx="5030640" cy="434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FC0BA8-93FF-479E-9984-3FE9EFE695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3EE8DD-6820-4F2C-9BFD-155E38DCD1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7F6390-AA8E-4879-8B4A-9810CE3EF7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18FFEE-F7E0-4401-A85E-E690D56E2E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5E6EAA-B92A-467C-97F7-BC12E8A0787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94C9F-5B8F-4621-B8FB-11A815E56B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4B1D25-71E0-4890-ABA0-1073FA2D78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927E76-EAA1-44C8-AD53-C2FA2E5E2BF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7EB54B-C0A5-4BA8-8745-4B38549ACC1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3027-437B-4E94-B252-FAF9C3C56D1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FC6DB1-7E16-4723-92B7-FF3D3C87486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6ADEA-80AF-4E43-847B-CED00C46873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05478-3336-4020-B44F-6252B86D8FAA}" type="slidenum"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r>
              <a:rPr b="0" lang="en-GB" sz="14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1404C97-C565-4F5F-816D-D7132A6CFCDA}" type="slidenum">
              <a:rPr b="0" lang="hu-H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1.wmf"/><Relationship Id="rId5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752120" y="22824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faktor szerinti ANOVA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27400" y="2315160"/>
            <a:ext cx="532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öbb független mintánk van, elemszám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2133720" y="3200400"/>
                <a:ext cx="3579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,</m:t>
                    </m:r>
                    <m:r>
                      <m:t xml:space="preserve"> 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;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1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2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3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2133720" y="4419720"/>
                <a:ext cx="317160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1" name=""/>
              <p:cNvSpPr txBox="1"/>
              <p:nvPr/>
            </p:nvSpPr>
            <p:spPr>
              <a:xfrm>
                <a:off x="6324480" y="2286000"/>
                <a:ext cx="17528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1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,</m:t>
                        </m:r>
                      </m:sub>
                    </m:sSub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66535-6225-41E3-83C9-7CFBA417AE41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304920" y="1676520"/>
          <a:ext cx="8534160" cy="3595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8534160" cy="359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" name=""/>
          <p:cNvSpPr/>
          <p:nvPr/>
        </p:nvSpPr>
        <p:spPr>
          <a:xfrm>
            <a:off x="669960" y="650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85800" y="60948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iegyensúlyozott terv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: 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8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...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hu-HU" sz="28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i="1" lang="hu-HU" sz="28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BF724D-FBDB-48A2-97C9-E1D18C86DA52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9" name=""/>
          <p:cNvGraphicFramePr/>
          <p:nvPr/>
        </p:nvGraphicFramePr>
        <p:xfrm>
          <a:off x="380880" y="3124080"/>
          <a:ext cx="5410440" cy="196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3124080"/>
                    <a:ext cx="5410440" cy="196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21" name=""/>
              <p:cNvSpPr txBox="1"/>
              <p:nvPr/>
            </p:nvSpPr>
            <p:spPr>
              <a:xfrm>
                <a:off x="5715000" y="24382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graphicFrame>
        <p:nvGraphicFramePr>
          <p:cNvPr id="122" name=""/>
          <p:cNvGraphicFramePr/>
          <p:nvPr/>
        </p:nvGraphicFramePr>
        <p:xfrm>
          <a:off x="380880" y="533520"/>
          <a:ext cx="4191120" cy="1885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533520"/>
                    <a:ext cx="4191120" cy="1885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7544160" y="4495680"/>
            <a:ext cx="119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twe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760" y="5791320"/>
            <a:ext cx="960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with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6248520" y="1295280"/>
                <a:ext cx="2052360" cy="560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sub>
                    </m:sSub>
                    <m:r>
                      <m:t xml:space="preserve">/</m:t>
                    </m:r>
                    <m:rad>
                      <m:radPr>
                        <m:degHide m:val="1"/>
                      </m:radPr>
                      <m:deg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27" name=""/>
          <p:cNvSpPr/>
          <p:nvPr/>
        </p:nvSpPr>
        <p:spPr>
          <a:xfrm flipH="1">
            <a:off x="4572000" y="1600200"/>
            <a:ext cx="137160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H="1">
            <a:off x="5791320" y="4724280"/>
            <a:ext cx="1676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1523880" y="5105160"/>
            <a:ext cx="213372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5748480" y="5181480"/>
                <a:ext cx="223812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r</m:t>
                            </m:r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6593040" y="3124080"/>
                <a:ext cx="255096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448200" y="-1080"/>
            <a:ext cx="530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Descriptive cell statistic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99160" y="2513520"/>
            <a:ext cx="405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Test 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3FDD64-993D-4812-90A9-611B96B681BC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109600" y="463680"/>
            <a:ext cx="590868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Feltételezések: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46280" y="17366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295280" y="1736640"/>
            <a:ext cx="463248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várható értéke zéru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746280" y="257508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746280" y="3336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746280" y="4479840"/>
            <a:ext cx="323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275480" y="2575080"/>
            <a:ext cx="1771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u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971800" y="2590920"/>
                <a:ext cx="358920" cy="406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42" name=""/>
          <p:cNvSpPr/>
          <p:nvPr/>
        </p:nvSpPr>
        <p:spPr>
          <a:xfrm>
            <a:off x="3412080" y="2575080"/>
            <a:ext cx="1405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, konst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9320" y="3352680"/>
            <a:ext cx="71816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csoportokon belül és csoportok közö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670760" y="3886200"/>
            <a:ext cx="33152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 függetlenek egymástól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208880" y="4479840"/>
            <a:ext cx="702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„hibák” normális eloszlásúak (nem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datok!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6705720" y="685800"/>
                <a:ext cx="14713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2E09CF-E843-43FB-B11E-4B68804181C2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09120" y="768240"/>
            <a:ext cx="1295640" cy="519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8" name=""/>
              <p:cNvSpPr txBox="1"/>
              <p:nvPr/>
            </p:nvSpPr>
            <p:spPr>
              <a:xfrm>
                <a:off x="2514600" y="3200400"/>
                <a:ext cx="3429000" cy="54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9" name=""/>
          <p:cNvSpPr/>
          <p:nvPr/>
        </p:nvSpPr>
        <p:spPr>
          <a:xfrm>
            <a:off x="4418280" y="4418280"/>
            <a:ext cx="178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gazi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árható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865440" y="4418640"/>
            <a:ext cx="1428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ért érté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1905120" y="3809880"/>
            <a:ext cx="533160" cy="609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648960" y="455760"/>
            <a:ext cx="523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 szintje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d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dié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 flipV="1">
            <a:off x="3580920" y="3733560"/>
            <a:ext cx="685800" cy="609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flipV="1">
            <a:off x="4876920" y="3809880"/>
            <a:ext cx="7596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354040" y="1751400"/>
            <a:ext cx="400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ísérleti (nemcsak mérési)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191120" y="22860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801AC-247A-4F95-82FE-E05152451652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838080" y="457200"/>
                <a:ext cx="190512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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8" name=""/>
              <p:cNvSpPr txBox="1"/>
              <p:nvPr/>
            </p:nvSpPr>
            <p:spPr>
              <a:xfrm>
                <a:off x="3886200" y="457200"/>
                <a:ext cx="3700440" cy="53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914400" y="2057400"/>
                <a:ext cx="1568520" cy="51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60" name=""/>
              <p:cNvSpPr txBox="1"/>
              <p:nvPr/>
            </p:nvSpPr>
            <p:spPr>
              <a:xfrm>
                <a:off x="914400" y="4495680"/>
                <a:ext cx="1955880" cy="48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1" name=""/>
          <p:cNvSpPr/>
          <p:nvPr/>
        </p:nvSpPr>
        <p:spPr>
          <a:xfrm>
            <a:off x="6779160" y="1294200"/>
            <a:ext cx="172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581280" y="1730160"/>
            <a:ext cx="482148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diéta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3" name=""/>
              <p:cNvSpPr txBox="1"/>
              <p:nvPr/>
            </p:nvSpPr>
            <p:spPr>
              <a:xfrm>
                <a:off x="4038480" y="4495680"/>
                <a:ext cx="2687760" cy="460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64" name=""/>
          <p:cNvSpPr/>
          <p:nvPr/>
        </p:nvSpPr>
        <p:spPr>
          <a:xfrm>
            <a:off x="7008480" y="5333040"/>
            <a:ext cx="175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-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1440" y="3047040"/>
            <a:ext cx="1166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6" name=""/>
              <p:cNvSpPr txBox="1"/>
              <p:nvPr/>
            </p:nvSpPr>
            <p:spPr>
              <a:xfrm>
                <a:off x="4343400" y="320040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314E3E-314C-4FE4-808F-29B4D476ECDA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67" name=""/>
              <p:cNvSpPr txBox="1"/>
              <p:nvPr/>
            </p:nvSpPr>
            <p:spPr>
              <a:xfrm>
                <a:off x="3886200" y="304920"/>
                <a:ext cx="13525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 </m:t>
                    </m:r>
                    <m:r>
                      <m:t xml:space="preserve">+</m:t>
                    </m:r>
                    <m:acc>
                      <m:accPr>
                        <m:chr m:val="^"/>
                      </m:accPr>
                      <m:e>
                        <m:r>
                          <m:t xml:space="preserve">α</m:t>
                        </m:r>
                      </m:e>
                    </m:acc>
                    <m:sSub>
                      <m:e>
                        <m:r>
                          <m:t xml:space="preserve">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68" name=""/>
          <p:cNvSpPr/>
          <p:nvPr/>
        </p:nvSpPr>
        <p:spPr>
          <a:xfrm>
            <a:off x="685800" y="30384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ecs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69" name=""/>
              <p:cNvSpPr txBox="1"/>
              <p:nvPr/>
            </p:nvSpPr>
            <p:spPr>
              <a:xfrm>
                <a:off x="762120" y="1295280"/>
                <a:ext cx="3601800" cy="134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μ</m:t>
                        </m:r>
                      </m:e>
                    </m:acc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j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nary>
                      </m:den>
                    </m:f>
                    <m:r>
                      <m:t xml:space="preserve">=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0" name=""/>
              <p:cNvSpPr txBox="1"/>
              <p:nvPr/>
            </p:nvSpPr>
            <p:spPr>
              <a:xfrm>
                <a:off x="838080" y="3048120"/>
                <a:ext cx="160812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α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−</m:t>
                    </m:r>
                    <m:r>
                      <m:t xml:space="preserve">y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71" name=""/>
              <p:cNvSpPr txBox="1"/>
              <p:nvPr/>
            </p:nvSpPr>
            <p:spPr>
              <a:xfrm>
                <a:off x="838080" y="365760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72" name=""/>
          <p:cNvSpPr/>
          <p:nvPr/>
        </p:nvSpPr>
        <p:spPr>
          <a:xfrm>
            <a:off x="6019560" y="1675440"/>
            <a:ext cx="10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őátl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950720" y="2970720"/>
            <a:ext cx="318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tá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025240" y="365652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átla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5" name=""/>
          <p:cNvGraphicFramePr/>
          <p:nvPr/>
        </p:nvGraphicFramePr>
        <p:xfrm>
          <a:off x="685800" y="4495680"/>
          <a:ext cx="5715000" cy="18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495680"/>
                    <a:ext cx="5715000" cy="18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F9B061-38F4-44D4-9DFD-5EECAFCD2FE2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"/>
          <p:cNvGraphicFramePr/>
          <p:nvPr/>
        </p:nvGraphicFramePr>
        <p:xfrm>
          <a:off x="3809880" y="3048120"/>
          <a:ext cx="4876920" cy="2247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3048120"/>
                    <a:ext cx="4876920" cy="2247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838080" y="762120"/>
          <a:ext cx="5715000" cy="1842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838080" y="762120"/>
                    <a:ext cx="5715000" cy="184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7010280" y="990720"/>
                <a:ext cx="1447920" cy="861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4876920" y="5715000"/>
                <a:ext cx="86364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83" name=""/>
          <p:cNvSpPr/>
          <p:nvPr/>
        </p:nvSpPr>
        <p:spPr>
          <a:xfrm>
            <a:off x="6915240" y="1949760"/>
            <a:ext cx="2151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igma-restric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085880" y="563760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t to zer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1295280" y="3048120"/>
          <a:ext cx="1828800" cy="29718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95280" y="3048120"/>
                    <a:ext cx="182880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"/>
          <p:cNvSpPr/>
          <p:nvPr/>
        </p:nvSpPr>
        <p:spPr>
          <a:xfrm>
            <a:off x="304920" y="525780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6560" y="15120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B93CE-0760-4894-B5AF-8C7AA947F087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25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onfidencia-intervallum az egyes csoportok várható értékére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124280" y="1812960"/>
            <a:ext cx="18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ont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120680" y="2727360"/>
            <a:ext cx="2757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ntervallum-becslé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2" name=""/>
              <p:cNvSpPr txBox="1"/>
              <p:nvPr/>
            </p:nvSpPr>
            <p:spPr>
              <a:xfrm>
                <a:off x="5105520" y="2514600"/>
                <a:ext cx="138888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3" name=""/>
              <p:cNvSpPr txBox="1"/>
              <p:nvPr/>
            </p:nvSpPr>
            <p:spPr>
              <a:xfrm>
                <a:off x="3124080" y="3352680"/>
                <a:ext cx="1060560" cy="90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p>
                          <m:e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=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4" name=""/>
          <p:cNvSpPr/>
          <p:nvPr/>
        </p:nvSpPr>
        <p:spPr>
          <a:xfrm>
            <a:off x="4933800" y="3565440"/>
            <a:ext cx="22118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ab. fokszám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5" name=""/>
              <p:cNvSpPr txBox="1"/>
              <p:nvPr/>
            </p:nvSpPr>
            <p:spPr>
              <a:xfrm>
                <a:off x="7543800" y="3505320"/>
                <a:ext cx="1152360" cy="688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−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96" name=""/>
          <p:cNvSpPr/>
          <p:nvPr/>
        </p:nvSpPr>
        <p:spPr>
          <a:xfrm>
            <a:off x="807840" y="4403880"/>
            <a:ext cx="78112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 várható értékének konfidencia-intervallum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1981080" y="5257800"/>
                <a:ext cx="4845240" cy="53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α</m:t>
                            </m:r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</m:sub>
                        </m:sSub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>
                          <m:t xml:space="preserve">/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e>
                        </m:rad>
                        <m:r>
                          <m:t xml:space="preserve">&lt;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≤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α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2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>
                              <m:t xml:space="preserve">/</m:t>
                            </m:r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rad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98" name=""/>
              <p:cNvSpPr txBox="1"/>
              <p:nvPr/>
            </p:nvSpPr>
            <p:spPr>
              <a:xfrm>
                <a:off x="4800600" y="1752480"/>
                <a:ext cx="1490760" cy="503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μ</m:t>
                            </m:r>
                          </m:e>
                        </m:acc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00D0E6-8DBD-4C48-B10F-786379573AFC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99" name=""/>
              <p:cNvSpPr txBox="1"/>
              <p:nvPr/>
            </p:nvSpPr>
            <p:spPr>
              <a:xfrm>
                <a:off x="914400" y="762120"/>
                <a:ext cx="268776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00" name=""/>
          <p:cNvSpPr/>
          <p:nvPr/>
        </p:nvSpPr>
        <p:spPr>
          <a:xfrm>
            <a:off x="4570560" y="762120"/>
            <a:ext cx="135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utasít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973800" y="1870200"/>
            <a:ext cx="3020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degyik különböző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02" name=""/>
              <p:cNvSpPr txBox="1"/>
              <p:nvPr/>
            </p:nvSpPr>
            <p:spPr>
              <a:xfrm>
                <a:off x="914400" y="3200400"/>
                <a:ext cx="8953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3" name=""/>
              <p:cNvSpPr txBox="1"/>
              <p:nvPr/>
            </p:nvSpPr>
            <p:spPr>
              <a:xfrm>
                <a:off x="3200400" y="3200400"/>
                <a:ext cx="93204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4" name=""/>
              <p:cNvSpPr txBox="1"/>
              <p:nvPr/>
            </p:nvSpPr>
            <p:spPr>
              <a:xfrm>
                <a:off x="5486400" y="2971800"/>
                <a:ext cx="2157480" cy="78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05" name=""/>
          <p:cNvSpPr/>
          <p:nvPr/>
        </p:nvSpPr>
        <p:spPr>
          <a:xfrm>
            <a:off x="893160" y="4765680"/>
            <a:ext cx="482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ok: tervezett, 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388A95-9271-43A9-923C-895FA485262F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838080" y="762120"/>
                <a:ext cx="143856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4267080" y="609480"/>
                <a:ext cx="15717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  <m:r>
                                      <m:t xml:space="preserve">⋅</m:t>
                                    </m:r>
                                    <m:r>
                                      <m:t xml:space="preserve">−</m:t>
                                    </m:r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  <m:r>
                                          <m:t xml:space="preserve">⋅</m:t>
                                        </m:r>
                                      </m:sub>
                                    </m:sSub>
                                  </m:sub>
                                </m:sSub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685800" y="1752480"/>
                <a:ext cx="3576600" cy="96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5715000" y="1752480"/>
                <a:ext cx="2643120" cy="96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2</m:t>
                            </m:r>
                            <m:r>
                              <m:t xml:space="preserve">⋅</m:t>
                            </m:r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=</m:t>
                        </m:r>
                        <m:sSup>
                          <m:e>
                            <m:r>
                              <m:t xml:space="preserve">s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3</m:t>
                                    </m:r>
                                  </m:sub>
                                </m:sSub>
                              </m:den>
                            </m:f>
                          </m:e>
                        </m:d>
                      </m:sub>
                    </m:sSub>
                  </m:oMath>
                </a14:m>
              </a:p>
            </p:txBody>
          </p:sp>
        </mc:Choice>
        <mc:Fallback/>
      </mc:AlternateContent>
      <p:grpSp>
        <p:nvGrpSpPr>
          <p:cNvPr id="210" name=""/>
          <p:cNvGrpSpPr/>
          <p:nvPr/>
        </p:nvGrpSpPr>
        <p:grpSpPr>
          <a:xfrm>
            <a:off x="457200" y="3174120"/>
            <a:ext cx="8458200" cy="510120"/>
            <a:chOff x="457200" y="3174120"/>
            <a:chExt cx="8458200" cy="510120"/>
          </a:xfrm>
        </p:grpSpPr>
        <p:sp>
          <p:nvSpPr>
            <p:cNvPr id="211" name=""/>
            <p:cNvSpPr/>
            <p:nvPr/>
          </p:nvSpPr>
          <p:spPr>
            <a:xfrm>
              <a:off x="1600200" y="3174120"/>
              <a:ext cx="73152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gyesítésével a szabadsági fok 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r>
                <a:rPr b="0" i="1" lang="hu-HU" sz="2400" spc="-1" strike="noStrike">
                  <a:solidFill>
                    <a:srgbClr val="000000"/>
                  </a:solidFill>
                  <a:latin typeface="Times New Roman"/>
                </a:rPr>
                <a:t>n</a:t>
              </a:r>
              <a:r>
                <a:rPr b="0" lang="hu-HU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-2=6+6-2=10 lenne,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12" name=""/>
                <p:cNvSpPr txBox="1"/>
                <p:nvPr/>
              </p:nvSpPr>
              <p:spPr>
                <a:xfrm>
                  <a:off x="457200" y="3200400"/>
                  <a:ext cx="322200" cy="451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3" name=""/>
                <p:cNvSpPr txBox="1"/>
                <p:nvPr/>
              </p:nvSpPr>
              <p:spPr>
                <a:xfrm>
                  <a:off x="1295280" y="3200400"/>
                  <a:ext cx="322560" cy="473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3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214" name=""/>
            <p:cNvSpPr/>
            <p:nvPr/>
          </p:nvSpPr>
          <p:spPr>
            <a:xfrm>
              <a:off x="839520" y="319932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5" name=""/>
          <p:cNvGrpSpPr/>
          <p:nvPr/>
        </p:nvGrpSpPr>
        <p:grpSpPr>
          <a:xfrm>
            <a:off x="533520" y="3961080"/>
            <a:ext cx="5732280" cy="682200"/>
            <a:chOff x="533520" y="3961080"/>
            <a:chExt cx="5732280" cy="682200"/>
          </a:xfrm>
        </p:grpSpPr>
        <mc:AlternateContent>
          <mc:Choice xmlns:a14="http://schemas.microsoft.com/office/drawing/2010/main" Requires="a14">
            <p:sp>
              <p:nvSpPr>
                <p:cNvPr id="216" name=""/>
                <p:cNvSpPr txBox="1"/>
                <p:nvPr/>
              </p:nvSpPr>
              <p:spPr>
                <a:xfrm>
                  <a:off x="533520" y="3962520"/>
                  <a:ext cx="347400" cy="450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217" name=""/>
                <p:cNvSpPr txBox="1"/>
                <p:nvPr/>
              </p:nvSpPr>
              <p:spPr>
                <a:xfrm>
                  <a:off x="3505320" y="3962520"/>
                  <a:ext cx="2760480" cy="680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nary>
                        <m:naryPr>
                          <m:chr m:val="∑"/>
                          <m:supHide m:val="1"/>
                        </m:naryPr>
                        <m:sub>
                          <m:r>
                            <m:t xml:space="preserve">i</m:t>
                          </m:r>
                        </m:sub>
                        <m:sup/>
                        <m:e>
                          <m:sSub>
                            <m:e>
                              <m:r>
                                <m:t xml:space="preserve">p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</m:e>
                      </m:nary>
                      <m:r>
                        <m:t xml:space="preserve">−</m:t>
                      </m:r>
                      <m:r>
                        <m:t xml:space="preserve">r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4</m:t>
                      </m:r>
                      <m:r>
                        <m:t xml:space="preserve">−</m:t>
                      </m:r>
                      <m:r>
                        <m:t xml:space="preserve">4</m:t>
                      </m:r>
                      <m:r>
                        <m:t xml:space="preserve">=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</m:oMath>
                  </a14:m>
                </a:p>
              </p:txBody>
            </p:sp>
          </mc:Choice>
          <mc:Fallback/>
        </mc:AlternateContent>
        <p:sp>
          <p:nvSpPr>
            <p:cNvPr id="218" name=""/>
            <p:cNvSpPr/>
            <p:nvPr/>
          </p:nvSpPr>
          <p:spPr>
            <a:xfrm>
              <a:off x="1142280" y="3961080"/>
              <a:ext cx="2122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szabadsági fok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1828800" y="4648320"/>
                <a:ext cx="21556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f>
                          <m:num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3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</m:sSub>
                            <m:rad>
                              <m:radPr>
                                <m:degHide m:val="1"/>
                              </m:radPr>
                              <m:deg/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p</m:t>
                                        </m:r>
                                      </m:e>
                                      <m:sub>
                                        <m:r>
                                          <m:t xml:space="preserve">3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rad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5252760" y="4722840"/>
            <a:ext cx="3845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SD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Least Significant Differenc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09212C-DF85-4514-B800-0A514D3B31CE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990720" y="1752480"/>
          <a:ext cx="7000920" cy="4419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1752480"/>
                    <a:ext cx="7000920" cy="4419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4" name=""/>
          <p:cNvGrpSpPr/>
          <p:nvPr/>
        </p:nvGrpSpPr>
        <p:grpSpPr>
          <a:xfrm>
            <a:off x="5105520" y="2727360"/>
            <a:ext cx="1269360" cy="396720"/>
            <a:chOff x="5105520" y="2727360"/>
            <a:chExt cx="1269360" cy="396720"/>
          </a:xfrm>
        </p:grpSpPr>
        <p:sp>
          <p:nvSpPr>
            <p:cNvPr id="55" name=""/>
            <p:cNvSpPr/>
            <p:nvPr/>
          </p:nvSpPr>
          <p:spPr>
            <a:xfrm>
              <a:off x="510552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5105520" y="2895480"/>
              <a:ext cx="304560" cy="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5257440" y="2895480"/>
              <a:ext cx="152280" cy="228600"/>
            </a:xfrm>
            <a:prstGeom prst="line">
              <a:avLst/>
            </a:prstGeom>
            <a:ln w="12600">
              <a:solidFill>
                <a:srgbClr val="ff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5652000" y="2727360"/>
              <a:ext cx="72288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1800" spc="-1" strike="noStrike">
                  <a:solidFill>
                    <a:srgbClr val="333333"/>
                  </a:solidFill>
                  <a:latin typeface="H-Times New Roman"/>
                </a:rPr>
                <a:t>átla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9" name=""/>
          <p:cNvSpPr/>
          <p:nvPr/>
        </p:nvSpPr>
        <p:spPr>
          <a:xfrm>
            <a:off x="762120" y="533520"/>
            <a:ext cx="79246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 akkor is különböznek, ha a csoportok között nincs a valóságban különb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4440" y="319968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B11E89-FA60-4D84-B8B3-A57559651BF8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"/>
          <p:cNvSpPr/>
          <p:nvPr/>
        </p:nvSpPr>
        <p:spPr>
          <a:xfrm>
            <a:off x="834120" y="912960"/>
            <a:ext cx="280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ítá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adik nullhipotézi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2" name=""/>
              <p:cNvSpPr txBox="1"/>
              <p:nvPr/>
            </p:nvSpPr>
            <p:spPr>
              <a:xfrm>
                <a:off x="3924360" y="838080"/>
                <a:ext cx="202572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3" name=""/>
              <p:cNvSpPr txBox="1"/>
              <p:nvPr/>
            </p:nvSpPr>
            <p:spPr>
              <a:xfrm>
                <a:off x="1600200" y="2133720"/>
                <a:ext cx="12254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r>
                          <m:t xml:space="preserve">=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4" name=""/>
          <p:cNvSpPr/>
          <p:nvPr/>
        </p:nvSpPr>
        <p:spPr>
          <a:xfrm>
            <a:off x="3664440" y="2107440"/>
            <a:ext cx="3183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ontraszt-együttható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5" name=""/>
              <p:cNvSpPr txBox="1"/>
              <p:nvPr/>
            </p:nvSpPr>
            <p:spPr>
              <a:xfrm>
                <a:off x="1219320" y="3200400"/>
                <a:ext cx="16826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  <m:r>
                              <m:t xml:space="preserve">⋅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226" name=""/>
          <p:cNvSpPr/>
          <p:nvPr/>
        </p:nvSpPr>
        <p:spPr>
          <a:xfrm>
            <a:off x="3733560" y="3199320"/>
            <a:ext cx="130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trasz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7" name=""/>
              <p:cNvSpPr txBox="1"/>
              <p:nvPr/>
            </p:nvSpPr>
            <p:spPr>
              <a:xfrm>
                <a:off x="914400" y="4408560"/>
                <a:ext cx="1438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28" name=""/>
              <p:cNvSpPr txBox="1"/>
              <p:nvPr/>
            </p:nvSpPr>
            <p:spPr>
              <a:xfrm>
                <a:off x="3975120" y="4406760"/>
                <a:ext cx="158256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2</m:t>
                        </m:r>
                        <m:r>
                          <m:t xml:space="preserve">⋅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3</m:t>
                            </m:r>
                            <m:r>
                              <m:t xml:space="preserve">⋅</m:t>
                            </m:r>
                          </m:sub>
                        </m:sSub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9" name=""/>
          <p:cNvSpPr/>
          <p:nvPr/>
        </p:nvSpPr>
        <p:spPr>
          <a:xfrm>
            <a:off x="3159360" y="5079240"/>
            <a:ext cx="3288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2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-1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41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0" name=""/>
              <p:cNvSpPr txBox="1"/>
              <p:nvPr/>
            </p:nvSpPr>
            <p:spPr>
              <a:xfrm>
                <a:off x="7162920" y="228600"/>
                <a:ext cx="1431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1" name=""/>
              <p:cNvSpPr txBox="1"/>
              <p:nvPr/>
            </p:nvSpPr>
            <p:spPr>
              <a:xfrm>
                <a:off x="7175520" y="838080"/>
                <a:ext cx="1863720" cy="455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FB3290-FA82-4578-AF1D-ED018414B4E9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32" name=""/>
              <p:cNvSpPr txBox="1"/>
              <p:nvPr/>
            </p:nvSpPr>
            <p:spPr>
              <a:xfrm>
                <a:off x="1066680" y="914400"/>
                <a:ext cx="206532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3" name=""/>
              <p:cNvSpPr txBox="1"/>
              <p:nvPr/>
            </p:nvSpPr>
            <p:spPr>
              <a:xfrm>
                <a:off x="4572000" y="609480"/>
                <a:ext cx="243216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f>
                          <m:num>
                            <m:sSubSup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4" name=""/>
              <p:cNvSpPr txBox="1"/>
              <p:nvPr/>
            </p:nvSpPr>
            <p:spPr>
              <a:xfrm>
                <a:off x="704880" y="2133720"/>
                <a:ext cx="3052800" cy="68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k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e>
                    </m:d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35" name=""/>
              <p:cNvSpPr txBox="1"/>
              <p:nvPr/>
            </p:nvSpPr>
            <p:spPr>
              <a:xfrm>
                <a:off x="1447920" y="3124080"/>
                <a:ext cx="2266920" cy="1427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i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c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k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y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⋅</m:t>
                                </m:r>
                              </m:sub>
                            </m:sSub>
                          </m:e>
                        </m:nary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</m:sSub>
                        <m:rad>
                          <m:radPr>
                            <m:degHide m:val="1"/>
                          </m:radPr>
                          <m:deg/>
                          <m:e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c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k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e>
                            </m:nary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36" name=""/>
          <p:cNvSpPr/>
          <p:nvPr/>
        </p:nvSpPr>
        <p:spPr>
          <a:xfrm>
            <a:off x="793440" y="5180040"/>
            <a:ext cx="5868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rtogonálisak a kontrasztok, ha minden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l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kkor függetlenek az összehasonlítások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37" name=""/>
              <p:cNvSpPr txBox="1"/>
              <p:nvPr/>
            </p:nvSpPr>
            <p:spPr>
              <a:xfrm>
                <a:off x="6934320" y="51814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D022E6-B078-4EC1-88F9-F64B91E50BD3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604800" y="3052800"/>
          <a:ext cx="7101000" cy="3240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4800" y="3052800"/>
                    <a:ext cx="7101000" cy="324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685800" y="609480"/>
                <a:ext cx="18702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1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1" name=""/>
              <p:cNvSpPr txBox="1"/>
              <p:nvPr/>
            </p:nvSpPr>
            <p:spPr>
              <a:xfrm>
                <a:off x="711360" y="1371600"/>
                <a:ext cx="18460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2" name=""/>
              <p:cNvSpPr txBox="1"/>
              <p:nvPr/>
            </p:nvSpPr>
            <p:spPr>
              <a:xfrm>
                <a:off x="685800" y="2133720"/>
                <a:ext cx="294948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3</m:t>
                        </m:r>
                      </m:sup>
                    </m:sSubSup>
                    <m:r>
                      <m:t xml:space="preserve">: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43" name=""/>
              <p:cNvSpPr txBox="1"/>
              <p:nvPr/>
            </p:nvSpPr>
            <p:spPr>
              <a:xfrm>
                <a:off x="6019920" y="838080"/>
                <a:ext cx="1481040" cy="68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k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l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44" name=""/>
          <p:cNvSpPr/>
          <p:nvPr/>
        </p:nvSpPr>
        <p:spPr>
          <a:xfrm>
            <a:off x="7697520" y="83700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45" name=""/>
              <p:cNvSpPr txBox="1"/>
              <p:nvPr/>
            </p:nvSpPr>
            <p:spPr>
              <a:xfrm>
                <a:off x="6013440" y="2133720"/>
                <a:ext cx="2089080" cy="460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46" name=""/>
          <p:cNvSpPr/>
          <p:nvPr/>
        </p:nvSpPr>
        <p:spPr>
          <a:xfrm>
            <a:off x="5029200" y="23623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2C8BA6-72D2-4835-AAE8-4447D377C23C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47" name=""/>
              <p:cNvSpPr txBox="1"/>
              <p:nvPr/>
            </p:nvSpPr>
            <p:spPr>
              <a:xfrm>
                <a:off x="457200" y="304920"/>
                <a:ext cx="99216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4</m:t>
                            </m:r>
                          </m:e>
                          <m:e/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sp>
        <p:nvSpPr>
          <p:cNvPr id="248" name=""/>
          <p:cNvSpPr/>
          <p:nvPr/>
        </p:nvSpPr>
        <p:spPr>
          <a:xfrm>
            <a:off x="1749240" y="457200"/>
            <a:ext cx="671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összehasonlítás (1-2, 1-3, 1-4, 2-3, 2-4, 3-4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ost ho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19320" y="1295280"/>
            <a:ext cx="726120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összehasonlításra az elsőfajú hiba valószínűsége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*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pl.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05)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individual error rat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hogy nem követünk el elsőfajú hibát: 1- </a:t>
            </a:r>
            <a:r>
              <a:rPr b="0" i="1" lang="el-GR" sz="2400" spc="-1" strike="noStrike">
                <a:solidFill>
                  <a:srgbClr val="000000"/>
                </a:solidFill>
                <a:latin typeface="Times New Roman"/>
              </a:rPr>
              <a:t>α</a:t>
            </a:r>
            <a:r>
              <a:rPr b="0" i="1" lang="el-GR" sz="24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egyikéné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em követünk e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gy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üggetlen összehasonlítás valamelyikénél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övetünk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lsőfajú hibát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0" name=""/>
              <p:cNvSpPr txBox="1"/>
              <p:nvPr/>
            </p:nvSpPr>
            <p:spPr>
              <a:xfrm>
                <a:off x="7810560" y="3784680"/>
                <a:ext cx="1015920" cy="53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51" name=""/>
              <p:cNvSpPr txBox="1"/>
              <p:nvPr/>
            </p:nvSpPr>
            <p:spPr>
              <a:xfrm>
                <a:off x="7327800" y="4927680"/>
                <a:ext cx="187956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t xml:space="preserve">α</m:t>
                                </m:r>
                              </m:e>
                              <m:sup/>
                            </m:sSup>
                          </m:e>
                        </m:d>
                      </m:e>
                      <m:sup>
                        <m:r>
                          <m:t xml:space="preserve">r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252" name=""/>
          <p:cNvSpPr/>
          <p:nvPr/>
        </p:nvSpPr>
        <p:spPr>
          <a:xfrm>
            <a:off x="1977120" y="5638680"/>
            <a:ext cx="238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amily error rate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3" name=""/>
              <p:cNvSpPr txBox="1"/>
              <p:nvPr/>
            </p:nvSpPr>
            <p:spPr>
              <a:xfrm>
                <a:off x="5943600" y="5638680"/>
                <a:ext cx="248616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1</m:t>
                    </m:r>
                    <m:r>
                      <m:t xml:space="preserve">−</m:t>
                    </m:r>
                    <m:sSup>
                      <m:e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1</m:t>
                            </m:r>
                            <m:r>
                              <m:t xml:space="preserve">−</m:t>
                            </m:r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t xml:space="preserve">5</m:t>
                            </m:r>
                          </m:e>
                        </m:d>
                      </m:e>
                      <m:sup>
                        <m:r>
                          <m:t xml:space="preserve">6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6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4" name=""/>
          <p:cNvSpPr/>
          <p:nvPr/>
        </p:nvSpPr>
        <p:spPr>
          <a:xfrm>
            <a:off x="4801680" y="5638680"/>
            <a:ext cx="49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D7F83B-AD6B-4932-A175-C458C9C2E3E9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64920" y="608400"/>
            <a:ext cx="510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em független összehasonlítások eseté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6" name=""/>
              <p:cNvSpPr txBox="1"/>
              <p:nvPr/>
            </p:nvSpPr>
            <p:spPr>
              <a:xfrm>
                <a:off x="914400" y="2057400"/>
                <a:ext cx="104148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  <m:r>
                      <m:t xml:space="preserve">≤</m:t>
                    </m:r>
                    <m:sSup>
                      <m:e>
                        <m:r>
                          <m:t xml:space="preserve">kα</m:t>
                        </m:r>
                      </m:e>
                      <m:sup/>
                    </m:sSup>
                  </m:oMath>
                </a14:m>
              </a:p>
            </p:txBody>
          </p:sp>
        </mc:Choice>
        <mc:Fallback/>
      </mc:AlternateContent>
      <p:sp>
        <p:nvSpPr>
          <p:cNvPr id="257" name=""/>
          <p:cNvSpPr/>
          <p:nvPr/>
        </p:nvSpPr>
        <p:spPr>
          <a:xfrm>
            <a:off x="3181680" y="2056320"/>
            <a:ext cx="345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nferroni-egyenlőtlensé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58" name=""/>
              <p:cNvSpPr txBox="1"/>
              <p:nvPr/>
            </p:nvSpPr>
            <p:spPr>
              <a:xfrm>
                <a:off x="5943600" y="3200400"/>
                <a:ext cx="1574640" cy="352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6</m:t>
                    </m:r>
                    <m:r>
                      <m:t xml:space="preserve">⋅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5</m:t>
                    </m:r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3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59" name=""/>
          <p:cNvSpPr/>
          <p:nvPr/>
        </p:nvSpPr>
        <p:spPr>
          <a:xfrm>
            <a:off x="832680" y="312300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. 6 nem független összehasonlítás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AC41C9-B8E2-4621-BFCF-90D1BBB5213F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0" name=""/>
          <p:cNvGraphicFramePr/>
          <p:nvPr/>
        </p:nvGraphicFramePr>
        <p:xfrm>
          <a:off x="380880" y="914400"/>
          <a:ext cx="4419720" cy="164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914400"/>
                    <a:ext cx="4419720" cy="164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3657600" y="1676520"/>
          <a:ext cx="5486400" cy="1360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63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57600" y="1676520"/>
                    <a:ext cx="5486400" cy="136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4" name=""/>
              <p:cNvSpPr txBox="1"/>
              <p:nvPr/>
            </p:nvSpPr>
            <p:spPr>
              <a:xfrm>
                <a:off x="5504040" y="685800"/>
                <a:ext cx="131904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65" name=""/>
          <p:cNvGraphicFramePr/>
          <p:nvPr/>
        </p:nvGraphicFramePr>
        <p:xfrm>
          <a:off x="380880" y="3352680"/>
          <a:ext cx="4800600" cy="1791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6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80880" y="3352680"/>
                    <a:ext cx="4800600" cy="179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67" name=""/>
          <p:cNvGraphicFramePr/>
          <p:nvPr/>
        </p:nvGraphicFramePr>
        <p:xfrm>
          <a:off x="3657600" y="4419720"/>
          <a:ext cx="5181480" cy="12859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6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657600" y="4419720"/>
                    <a:ext cx="5181480" cy="12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69" name=""/>
              <p:cNvSpPr txBox="1"/>
              <p:nvPr/>
            </p:nvSpPr>
            <p:spPr>
              <a:xfrm>
                <a:off x="5729400" y="3276720"/>
                <a:ext cx="1361880" cy="458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70" name=""/>
          <p:cNvSpPr/>
          <p:nvPr/>
        </p:nvSpPr>
        <p:spPr>
          <a:xfrm>
            <a:off x="452520" y="303840"/>
            <a:ext cx="86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rvezett összehasonlításo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lanned comps fülön: Specify contras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C5C1DD-E839-41A7-9E27-177C81EF17F5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71" name=""/>
              <p:cNvSpPr txBox="1"/>
              <p:nvPr/>
            </p:nvSpPr>
            <p:spPr>
              <a:xfrm>
                <a:off x="5867280" y="228600"/>
                <a:ext cx="2148120" cy="78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4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μ</m:t>
                            </m:r>
                          </m:e>
                          <m:sub>
                            <m:r>
                              <m:t xml:space="preserve">3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272" name=""/>
          <p:cNvGraphicFramePr/>
          <p:nvPr/>
        </p:nvGraphicFramePr>
        <p:xfrm>
          <a:off x="0" y="228600"/>
          <a:ext cx="4724280" cy="1762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28600"/>
                    <a:ext cx="4724280" cy="176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3124080" y="1219320"/>
          <a:ext cx="6019920" cy="1455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24080" y="1219320"/>
                    <a:ext cx="6019920" cy="145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90C5A3-5D0F-45ED-B78F-0875026C3F53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6" name=""/>
          <p:cNvGraphicFramePr/>
          <p:nvPr/>
        </p:nvGraphicFramePr>
        <p:xfrm>
          <a:off x="304920" y="1676520"/>
          <a:ext cx="5943600" cy="44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676520"/>
                    <a:ext cx="5943600" cy="44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78" name=""/>
              <p:cNvSpPr txBox="1"/>
              <p:nvPr/>
            </p:nvSpPr>
            <p:spPr>
              <a:xfrm>
                <a:off x="6429240" y="3733920"/>
                <a:ext cx="271476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RMSSE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i</m:t>
                                </m:r>
                              </m:sub>
                              <m:sup/>
                              <m:e>
                                <m:sSubSup>
                                  <m:e>
                                    <m:r>
                                      <m:t xml:space="preserve">α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bSup>
                              </m:e>
                            </m:nary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r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e>
                            </m:d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279" name=""/>
          <p:cNvSpPr/>
          <p:nvPr/>
        </p:nvSpPr>
        <p:spPr>
          <a:xfrm>
            <a:off x="223200" y="152280"/>
            <a:ext cx="5276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kkora különbséget tudnánk kimutatni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33920" y="913320"/>
            <a:ext cx="751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Power Analysis&gt;Several Means, ANOVA 1-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D47D7F-B3DA-46D3-A198-4DDDD1D66A17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81" name=""/>
          <p:cNvGraphicFramePr/>
          <p:nvPr/>
        </p:nvGraphicFramePr>
        <p:xfrm>
          <a:off x="838080" y="2514600"/>
          <a:ext cx="4724640" cy="125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514600"/>
                    <a:ext cx="4724640" cy="12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"/>
          <p:cNvSpPr/>
          <p:nvPr/>
        </p:nvSpPr>
        <p:spPr>
          <a:xfrm>
            <a:off x="606960" y="228600"/>
            <a:ext cx="27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omoszkedasztici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3276720" y="4343400"/>
          <a:ext cx="5181480" cy="1460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4343400"/>
                    <a:ext cx="5181480" cy="146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"/>
          <p:cNvSpPr/>
          <p:nvPr/>
        </p:nvSpPr>
        <p:spPr>
          <a:xfrm>
            <a:off x="6324480" y="2514600"/>
            <a:ext cx="2438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érzékeny a normális eloszlás feltételezésé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7" name=""/>
              <p:cNvSpPr txBox="1"/>
              <p:nvPr/>
            </p:nvSpPr>
            <p:spPr>
              <a:xfrm>
                <a:off x="5029200" y="304920"/>
                <a:ext cx="141768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konst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88" name=""/>
          <p:cNvSpPr/>
          <p:nvPr/>
        </p:nvSpPr>
        <p:spPr>
          <a:xfrm>
            <a:off x="988560" y="1675440"/>
            <a:ext cx="189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artlett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835920" y="4343400"/>
            <a:ext cx="18795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Levene-pró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630480" y="3038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62400" y="913320"/>
            <a:ext cx="789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re results&gt;Assumptions fülön: Homogeneity of varianc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048120" y="2819520"/>
            <a:ext cx="2971800" cy="114300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D0600-E6FE-4AD9-99BC-53B531C17114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"/>
          <p:cNvSpPr/>
          <p:nvPr/>
        </p:nvSpPr>
        <p:spPr>
          <a:xfrm>
            <a:off x="221400" y="228600"/>
            <a:ext cx="732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A feltételezések ellenőrzése a reziduumok vizsgálatá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94" name=""/>
          <p:cNvGraphicFramePr/>
          <p:nvPr/>
        </p:nvGraphicFramePr>
        <p:xfrm>
          <a:off x="457200" y="3657600"/>
          <a:ext cx="3657600" cy="2743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657600"/>
                    <a:ext cx="3657600" cy="274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6" name=""/>
          <p:cNvGraphicFramePr/>
          <p:nvPr/>
        </p:nvGraphicFramePr>
        <p:xfrm>
          <a:off x="5029200" y="762120"/>
          <a:ext cx="3581280" cy="2685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9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29200" y="7621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98" name=""/>
          <p:cNvGraphicFramePr/>
          <p:nvPr/>
        </p:nvGraphicFramePr>
        <p:xfrm>
          <a:off x="4800600" y="3733920"/>
          <a:ext cx="3581280" cy="26859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9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800600" y="3733920"/>
                    <a:ext cx="3581280" cy="268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0" name=""/>
          <p:cNvSpPr/>
          <p:nvPr/>
        </p:nvSpPr>
        <p:spPr>
          <a:xfrm>
            <a:off x="441000" y="1031760"/>
            <a:ext cx="231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esiduals 1 f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2269440" y="1946160"/>
            <a:ext cx="143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orma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809880" y="220968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227520" y="2666880"/>
            <a:ext cx="4350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red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&amp; resids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redicted resul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histogram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371600" y="3124080"/>
            <a:ext cx="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495680" y="3429000"/>
            <a:ext cx="38124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373CDF-E950-4981-B87A-13B30B672219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1143000" y="2209680"/>
          <a:ext cx="7130880" cy="4191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43000" y="2209680"/>
                    <a:ext cx="7130880" cy="419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" name=""/>
          <p:cNvSpPr/>
          <p:nvPr/>
        </p:nvSpPr>
        <p:spPr>
          <a:xfrm>
            <a:off x="3870360" y="2514600"/>
            <a:ext cx="2225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H-Times New Roman"/>
              </a:rPr>
              <a:t>átla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50532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505320" y="2666880"/>
            <a:ext cx="304560" cy="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H="1">
            <a:off x="3657240" y="2666880"/>
            <a:ext cx="152280" cy="228600"/>
          </a:xfrm>
          <a:prstGeom prst="line">
            <a:avLst/>
          </a:prstGeom>
          <a:ln w="12600">
            <a:solidFill>
              <a:srgbClr val="ff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296720" y="3504600"/>
            <a:ext cx="85428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800" spc="-1" strike="noStrike">
                <a:solidFill>
                  <a:srgbClr val="333333"/>
                </a:solidFill>
                <a:latin typeface="Times New Roman"/>
              </a:rPr>
              <a:t>csopo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90120" y="456120"/>
            <a:ext cx="769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z átlagok jobban különböznek. Szignifikáns a különbsé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3124080" y="1143000"/>
                <a:ext cx="317196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⋅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FF3C9A-E609-41B0-BF10-3D93AC2B4E51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685800" y="2209680"/>
          <a:ext cx="3962520" cy="297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209680"/>
                    <a:ext cx="3962520" cy="297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"/>
          <p:cNvSpPr/>
          <p:nvPr/>
        </p:nvSpPr>
        <p:spPr>
          <a:xfrm>
            <a:off x="671040" y="727200"/>
            <a:ext cx="3204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Residuals 2 f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ülö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X: Orde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Y: Res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B884D8-4B13-463A-915D-59862AA2EE6A}" type="slidenum">
              <a:t>30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145440"/>
            <a:ext cx="7669080" cy="1848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29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(Box-Hunter-Hunter: Statistics for Experimenters, J. Wiley, 1978, p. 165) Véralvadási idő (sec) négyféle diéta esetén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eralv.s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457200" y="2438280"/>
            <a:ext cx="4495680" cy="35179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68880" y="2666880"/>
                <a:ext cx="26719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3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μ</m:t>
                        </m:r>
                      </m:e>
                      <m:sub>
                        <m:r>
                          <m:t xml:space="preserve">4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C53A04-D8F5-48FA-B6C8-F7B338312789}" type="slidenum">
              <a:t>4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1355760" y="1260360"/>
            <a:ext cx="6797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nincs különbség a csoportok között, csak a véletlen ingadozás miatt térnek el egymástól az átlago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1523880" y="2819520"/>
                <a:ext cx="40644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2570760" y="2801880"/>
            <a:ext cx="3471120" cy="141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tféleképpen adható meg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tlagok közötti eltér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1676520" y="4875840"/>
            <a:ext cx="5685840" cy="515160"/>
            <a:chOff x="1676520" y="4875840"/>
            <a:chExt cx="5685840" cy="515160"/>
          </a:xfrm>
        </p:grpSpPr>
        <mc:AlternateContent>
          <mc:Choice xmlns:a14="http://schemas.microsoft.com/office/drawing/2010/main" Requires="a14">
            <p:sp>
              <p:nvSpPr>
                <p:cNvPr id="77" name=""/>
                <p:cNvSpPr txBox="1"/>
                <p:nvPr/>
              </p:nvSpPr>
              <p:spPr>
                <a:xfrm>
                  <a:off x="1676520" y="4876920"/>
                  <a:ext cx="35532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78" name=""/>
                <p:cNvSpPr txBox="1"/>
                <p:nvPr/>
              </p:nvSpPr>
              <p:spPr>
                <a:xfrm>
                  <a:off x="3124080" y="4876920"/>
                  <a:ext cx="35568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79" name=""/>
            <p:cNvSpPr/>
            <p:nvPr/>
          </p:nvSpPr>
          <p:spPr>
            <a:xfrm>
              <a:off x="2363760" y="487584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é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735000" y="4875840"/>
              <a:ext cx="384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i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81" name=""/>
                <p:cNvSpPr txBox="1"/>
                <p:nvPr/>
              </p:nvSpPr>
              <p:spPr>
                <a:xfrm>
                  <a:off x="4572000" y="4876920"/>
                  <a:ext cx="411120" cy="514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y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2" name=""/>
            <p:cNvSpPr/>
            <p:nvPr/>
          </p:nvSpPr>
          <p:spPr>
            <a:xfrm>
              <a:off x="5256720" y="4875840"/>
              <a:ext cx="2105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körül ingadozik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47C5FD-C292-4BB2-AD13-00212DAB0C7B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528840" y="501840"/>
            <a:ext cx="4751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csoporton belüli ingadozá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rianciáj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5791320" y="0"/>
                <a:ext cx="232092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3048120" y="4191120"/>
                <a:ext cx="5246640" cy="1442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s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00120" y="3275640"/>
            <a:ext cx="7729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egyesített csoportokon belüli szórásnégyzet (ha konstan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6477120" y="1523880"/>
                <a:ext cx="1425600" cy="134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t xml:space="preserve">i</m:t>
                        </m:r>
                        <m:r>
                          <m:t xml:space="preserve">⋅</m:t>
                        </m:r>
                        <m:r>
                          <m:t xml:space="preserve">=</m:t>
                        </m:r>
                        <m:f>
                          <m:num>
                            <m:nary>
                              <m:naryPr>
                                <m:chr m:val="∑"/>
                              </m:naryPr>
                              <m:sub>
                                <m:r>
                                  <m:t xml:space="preserve">j</m:t>
                                </m:r>
                                <m:r>
                                  <m:t xml:space="preserve">=</m:t>
                                </m:r>
                                <m:r>
                                  <m:t xml:space="preserve">1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p</m:t>
                                    </m:r>
                                  </m:e>
                                  <m:sub>
                                    <m:r>
                                      <m:t xml:space="preserve">i</m:t>
                                    </m:r>
                                  </m:sub>
                                </m:sSub>
                              </m:sup>
                              <m:e>
                                <m:sSub>
                                  <m:e>
                                    <m:r>
                                      <m:t xml:space="preserve">y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ij</m:t>
                                    </m:r>
                                  </m:sub>
                                </m:sSub>
                              </m:e>
                            </m:nary>
                          </m:num>
                          <m:den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den>
                        </m:f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88" name=""/>
          <p:cNvSpPr/>
          <p:nvPr/>
        </p:nvSpPr>
        <p:spPr>
          <a:xfrm>
            <a:off x="830880" y="1904040"/>
            <a:ext cx="42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a csoport-átlagtól való eltérése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D4496-6F61-48EF-AB58-F5DA23635EE4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5105520" y="1295280"/>
                <a:ext cx="1644480" cy="532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y</m:t>
                                </m:r>
                              </m:e>
                            </m:acc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0" name=""/>
          <p:cNvSpPr/>
          <p:nvPr/>
        </p:nvSpPr>
        <p:spPr>
          <a:xfrm>
            <a:off x="289440" y="273240"/>
            <a:ext cx="885708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csoport átlagának varianciája, ha a valóságban nincs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csak véletlen ingadoz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5943600" y="2362320"/>
                <a:ext cx="2898720" cy="121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528840" y="2885040"/>
            <a:ext cx="466884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átlagokból becsülve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onst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7237440" y="1675440"/>
            <a:ext cx="147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6781320" y="1599840"/>
            <a:ext cx="304920" cy="304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5" name=""/>
              <p:cNvSpPr txBox="1"/>
              <p:nvPr/>
            </p:nvSpPr>
            <p:spPr>
              <a:xfrm>
                <a:off x="533520" y="4572000"/>
                <a:ext cx="3905280" cy="122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σ</m:t>
                            </m:r>
                          </m:e>
                        </m:acc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y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rPr>
                            <m:lit/>
                            <m:nor/>
                          </m:rPr>
                          <m:t xml:space="preserve">ps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p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/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6095880" y="4648320"/>
                <a:ext cx="2551320" cy="121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4747680" y="4113720"/>
            <a:ext cx="325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általánosa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Symbol"/>
                <a:ea typeface="Symbol"/>
              </a:rPr>
              <a:t>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ns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610E3-23AD-4BDE-85D1-A462E2A722D4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447920" y="1295280"/>
                <a:ext cx="1098360" cy="917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1752480" y="4724280"/>
                <a:ext cx="1573200" cy="9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&gt;</m:t>
                    </m:r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4952880" y="2286000"/>
                <a:ext cx="2678400" cy="1398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i</m:t>
                        </m:r>
                      </m:sub>
                      <m:sup/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/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1" name=""/>
              <p:cNvSpPr txBox="1"/>
              <p:nvPr/>
            </p:nvSpPr>
            <p:spPr>
              <a:xfrm>
                <a:off x="4952880" y="228600"/>
                <a:ext cx="2705400" cy="1219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02" name=""/>
          <p:cNvSpPr/>
          <p:nvPr/>
        </p:nvSpPr>
        <p:spPr>
          <a:xfrm>
            <a:off x="7978680" y="2970720"/>
            <a:ext cx="116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withi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7742160" y="83700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betwe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H="1">
            <a:off x="2895480" y="990720"/>
            <a:ext cx="1905120" cy="304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H="1" flipV="1">
            <a:off x="2743200" y="2057400"/>
            <a:ext cx="220968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66800" y="3859920"/>
            <a:ext cx="4641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 valóságban van különbség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(H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5410080" y="3962520"/>
          <a:ext cx="3124440" cy="2133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10080" y="3962520"/>
                    <a:ext cx="3124440" cy="213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C34683-7C4A-4B11-BEB6-B0A0E3794BD1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819160" y="380880"/>
            <a:ext cx="359244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 tábláz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0" name=""/>
          <p:cNvGraphicFramePr/>
          <p:nvPr/>
        </p:nvGraphicFramePr>
        <p:xfrm>
          <a:off x="304920" y="1143000"/>
          <a:ext cx="8610480" cy="3809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143000"/>
                    <a:ext cx="8610480" cy="3809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2" name=""/>
          <p:cNvSpPr/>
          <p:nvPr/>
        </p:nvSpPr>
        <p:spPr>
          <a:xfrm>
            <a:off x="441360" y="5013360"/>
            <a:ext cx="855036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ún. teljes négyzetösszeg. Az A faktor hatása jelentős (elutasítju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43880" y="5394240"/>
            <a:ext cx="251244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hipotézist), 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4038480" y="5562720"/>
                <a:ext cx="174168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fPr>
                        <m:type m:val="lin"/>
                      </m:fPr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  <m:r>
                      <m:t xml:space="preserve">³</m:t>
                    </m:r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krit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ANOVA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58BBA-64DB-4CBE-BB72-B5E14FE7435B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38:40Z</dcterms:modified>
  <cp:revision>230</cp:revision>
  <dc:subject/>
  <dc:title>Folyamatkepessegi elemzes</dc:title>
</cp:coreProperties>
</file>