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858000" cy="96583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5B9563-1112-46C2-A140-BA6C7A44A02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109600" y="151920"/>
            <a:ext cx="590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61600" y="1790280"/>
            <a:ext cx="7456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61600" y="4059000"/>
            <a:ext cx="7456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7B5292-CC91-45A6-82AC-7DEA56982E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109600" y="151920"/>
            <a:ext cx="590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1600" y="1790280"/>
            <a:ext cx="3638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382280" y="1790280"/>
            <a:ext cx="3638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61600" y="4059000"/>
            <a:ext cx="3638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382280" y="4059000"/>
            <a:ext cx="3638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4425AB-1AF0-466A-A09B-8D42544127D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109600" y="151920"/>
            <a:ext cx="590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61600" y="1790280"/>
            <a:ext cx="2400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083040" y="1790280"/>
            <a:ext cx="2400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604120" y="1790280"/>
            <a:ext cx="2400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61600" y="4059000"/>
            <a:ext cx="2400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083040" y="4059000"/>
            <a:ext cx="2400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604120" y="4059000"/>
            <a:ext cx="2400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32B2DC-894B-4440-9FB5-CC86BBB2206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109600" y="151920"/>
            <a:ext cx="590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561600" y="1790280"/>
            <a:ext cx="74566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95B6AB-164E-4540-B95D-E09E03D3FE6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109600" y="151920"/>
            <a:ext cx="590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61600" y="1790280"/>
            <a:ext cx="7456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A9588A-5326-48F4-BB5A-5989EB929D8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109600" y="151920"/>
            <a:ext cx="590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61600" y="1790280"/>
            <a:ext cx="3638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382280" y="1790280"/>
            <a:ext cx="3638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118393-EB18-44F1-B211-1EFD6FCB21C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109600" y="151920"/>
            <a:ext cx="590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21DB49-BB53-4BD4-96B3-DC82F1A98AD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109600" y="151920"/>
            <a:ext cx="5908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4BF683-BB0B-4B6A-A5BA-6113CE3540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109600" y="151920"/>
            <a:ext cx="590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61600" y="1790280"/>
            <a:ext cx="3638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382280" y="1790280"/>
            <a:ext cx="3638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61600" y="4059000"/>
            <a:ext cx="3638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3EFED0-78F6-4A11-8B4D-98125D0529A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109600" y="151920"/>
            <a:ext cx="590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61600" y="1790280"/>
            <a:ext cx="3638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382280" y="1790280"/>
            <a:ext cx="3638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382280" y="4059000"/>
            <a:ext cx="3638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E3DEDE-7458-4484-A7E1-97D694FF9BC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109600" y="151920"/>
            <a:ext cx="590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61600" y="1790280"/>
            <a:ext cx="3638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382280" y="1790280"/>
            <a:ext cx="3638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61600" y="4059000"/>
            <a:ext cx="7456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71B74B-8280-4B80-B1B0-F438A03B37C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109600" y="151920"/>
            <a:ext cx="59086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1600" y="1790280"/>
            <a:ext cx="7456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9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243240" y="6400800"/>
            <a:ext cx="267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O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330960" y="6400800"/>
            <a:ext cx="1758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2F975-5D26-43A4-A50D-0112E5AE79D7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fld id="{45B4E064-F0B5-4AAF-A2FC-53C5F372A3C3}" type="slidenum">
              <a:rPr b="0" lang="hu-H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7.wmf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904760" y="457200"/>
            <a:ext cx="4724280" cy="914400"/>
          </a:xfrm>
          <a:prstGeom prst="rect">
            <a:avLst/>
          </a:prstGeom>
          <a:noFill/>
          <a:ln w="50760">
            <a:solidFill>
              <a:srgbClr val="808080"/>
            </a:solidFill>
            <a:miter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Két faktor szerinti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ANOVA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762120" y="1964880"/>
            <a:ext cx="716256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Az </a:t>
            </a:r>
            <a:r>
              <a:rPr b="0" i="1" lang="hu-HU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faktor minden szintjét kombináljuk a </a:t>
            </a:r>
            <a:r>
              <a:rPr b="0" i="1" lang="hu-HU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faktor minden szintjével, minden "cellában azonos számú ismétlés (kiegyensúlyozott terv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A terv szerkezete miatt a faktorok hatását egymásétól függetlenül vizsgálhatju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1CB887-0998-4659-8C79-9EA80A8BE713}" type="slidenum">
              <a:t>1</a:t>
            </a:fld>
          </a:p>
        </p:txBody>
      </p:sp>
    </p:spTree>
  </p:cSld>
  <p:transition>
    <p:checke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6" name=""/>
          <p:cNvGraphicFramePr/>
          <p:nvPr/>
        </p:nvGraphicFramePr>
        <p:xfrm>
          <a:off x="533520" y="2286000"/>
          <a:ext cx="5333760" cy="4000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2286000"/>
                    <a:ext cx="5333760" cy="400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406800" y="253080"/>
            <a:ext cx="3705480" cy="520560"/>
          </a:xfrm>
          <a:prstGeom prst="rect">
            <a:avLst/>
          </a:prstGeom>
          <a:noFill/>
          <a:ln w="507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Box-Cox 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transzformáci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5029200" y="228600"/>
                <a:ext cx="10396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tr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λ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00" name=""/>
          <p:cNvSpPr/>
          <p:nvPr/>
        </p:nvSpPr>
        <p:spPr>
          <a:xfrm>
            <a:off x="276480" y="959040"/>
            <a:ext cx="8713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Fil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Open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: (Program File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StatSoft&gt;Statistica7&gt;Examples&gt;Macros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Analysis Examples&gt;BoxCox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7238880" y="4572000"/>
                <a:ext cx="89532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  <m:r>
                      <m:t xml:space="preserve">≈</m:t>
                    </m:r>
                    <m:r>
                      <m:t xml:space="preserve">−</m:t>
                    </m:r>
                    <m:r>
                      <m:t xml:space="preserve">1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63297B-00CA-4707-97C3-0EC11995BA21}" type="slidenum">
              <a:t>10</a:t>
            </a:fld>
          </a:p>
        </p:txBody>
      </p:sp>
    </p:spTree>
  </p:cSld>
  <p:transition>
    <p:checke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2" name=""/>
          <p:cNvGraphicFramePr/>
          <p:nvPr/>
        </p:nvGraphicFramePr>
        <p:xfrm>
          <a:off x="762120" y="1219320"/>
          <a:ext cx="5943600" cy="445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219320"/>
                    <a:ext cx="5943600" cy="445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D18EA7-287B-4692-AC35-B2F476377BF8}" type="slidenum">
              <a:t>11</a:t>
            </a:fld>
          </a:p>
        </p:txBody>
      </p:sp>
    </p:spTree>
  </p:cSld>
  <p:transition>
    <p:checke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" name=""/>
          <p:cNvGraphicFramePr/>
          <p:nvPr/>
        </p:nvGraphicFramePr>
        <p:xfrm>
          <a:off x="1066680" y="1523880"/>
          <a:ext cx="5943600" cy="445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1523880"/>
                    <a:ext cx="5943600" cy="445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06" name=""/>
              <p:cNvSpPr txBox="1"/>
              <p:nvPr/>
            </p:nvSpPr>
            <p:spPr>
              <a:xfrm>
                <a:off x="609480" y="533520"/>
                <a:ext cx="106200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~</m:t>
                    </m:r>
                    <m:sSup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e>
                      <m:sup>
                        <m:r>
                          <m:t xml:space="preserve">α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7" name=""/>
              <p:cNvSpPr txBox="1"/>
              <p:nvPr/>
            </p:nvSpPr>
            <p:spPr>
              <a:xfrm>
                <a:off x="2286000" y="533520"/>
                <a:ext cx="2149560" cy="48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ln</m:t>
                    </m:r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k</m:t>
                    </m:r>
                    <m:r>
                      <m:t xml:space="preserve">+</m:t>
                    </m:r>
                    <m:r>
                      <m:t xml:space="preserve">α</m:t>
                    </m:r>
                    <m:r>
                      <m:rPr>
                        <m:lit/>
                        <m:nor/>
                      </m:rPr>
                      <m:t xml:space="preserve">ln {</m:t>
                    </m:r>
                    <m:acc>
                      <m:accPr>
                        <m:chr m:val="¯"/>
                      </m:accPr>
                      <m:e>
                        <m:r>
                          <m:t xml:space="preserve">y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p:sp>
        <p:nvSpPr>
          <p:cNvPr id="108" name=""/>
          <p:cNvSpPr/>
          <p:nvPr/>
        </p:nvSpPr>
        <p:spPr>
          <a:xfrm>
            <a:off x="5252400" y="533520"/>
            <a:ext cx="296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egyenest kell illeszte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7467480" y="2133720"/>
                <a:ext cx="763560" cy="35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≈</m:t>
                    </m:r>
                    <m:r>
                      <m:t xml:space="preserve">2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7391520" y="3200400"/>
                <a:ext cx="101124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~</m:t>
                    </m:r>
                    <m:sSup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B0F7BF-B926-4A61-B2FE-F79296101597}" type="slidenum">
              <a:t>12</a:t>
            </a:fld>
          </a:p>
        </p:txBody>
      </p:sp>
    </p:spTree>
  </p:cSld>
  <p:transition>
    <p:checke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11" name=""/>
              <p:cNvSpPr txBox="1"/>
              <p:nvPr/>
            </p:nvSpPr>
            <p:spPr>
              <a:xfrm>
                <a:off x="762120" y="685800"/>
                <a:ext cx="106200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y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~</m:t>
                    </m:r>
                    <m:sSup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e>
                      <m:sup>
                        <m:r>
                          <m:t xml:space="preserve">α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2" name=""/>
              <p:cNvSpPr txBox="1"/>
              <p:nvPr/>
            </p:nvSpPr>
            <p:spPr>
              <a:xfrm>
                <a:off x="1087560" y="4572000"/>
                <a:ext cx="3905280" cy="9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tr</m:t>
                        </m:r>
                      </m:sup>
                    </m:sSup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α</m:t>
                            </m:r>
                          </m:sup>
                        </m:sSup>
                      </m:e>
                    </m:nary>
                    <m:r>
                      <m:rPr>
                        <m:lit/>
                        <m:nor/>
                      </m:rPr>
                      <m:t xml:space="preserve">dy</m:t>
                    </m:r>
                    <m:r>
                      <m:t xml:space="preserve">=</m:t>
                    </m: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α</m:t>
                                </m:r>
                              </m:sup>
                            </m:sSup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ha</m:t>
                            </m:r>
                            <m:r>
                              <m:t xml:space="preserve"> </m:t>
                            </m:r>
                            <m:r>
                              <m:t xml:space="preserve">α</m:t>
                            </m:r>
                            <m:r>
                              <m:t xml:space="preserve">≠</m:t>
                            </m:r>
                            <m:r>
                              <m:t xml:space="preserve">1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3" name=""/>
              <p:cNvSpPr txBox="1"/>
              <p:nvPr/>
            </p:nvSpPr>
            <p:spPr>
              <a:xfrm>
                <a:off x="4083120" y="3406680"/>
                <a:ext cx="1682640" cy="45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dy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tr</m:t>
                        </m:r>
                      </m:sup>
                    </m:sSup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ky</m:t>
                        </m:r>
                      </m:e>
                      <m:sup>
                        <m:r>
                          <m:t xml:space="preserve">−</m:t>
                        </m:r>
                        <m:r>
                          <m:t xml:space="preserve">α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dy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2819520" y="533520"/>
                <a:ext cx="4114800" cy="96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ar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tr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y</m:t>
                                    </m:r>
                                  </m:e>
                                  <m:sup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tr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y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y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sSup>
                                  <m:e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dy</m:t>
                                    </m:r>
                                  </m:e>
                                  <m:sup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tr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rPr>
                                    <m:lit/>
                                    <m:nor/>
                                  </m:rPr>
                                  <m:t xml:space="preserve">dy</m:t>
                                </m:r>
                              </m:den>
                            </m:f>
                          </m:e>
                        </m:d>
                      </m:e>
                      <m:sup>
                        <m:r>
                          <m:t xml:space="preserve">2</m:t>
                        </m:r>
                      </m:sup>
                    </m:sSup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2</m:t>
                        </m:r>
                        <m:r>
                          <m:t xml:space="preserve">α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5" name=""/>
              <p:cNvSpPr txBox="1"/>
              <p:nvPr/>
            </p:nvSpPr>
            <p:spPr>
              <a:xfrm>
                <a:off x="826920" y="2057400"/>
                <a:ext cx="203076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ar</m:t>
                    </m:r>
                    <m:d>
                      <m:dPr>
                        <m:begChr m:val="("/>
                        <m:endChr m:val=")"/>
                      </m:dPr>
                      <m:e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tr</m:t>
                            </m:r>
                          </m:sup>
                        </m:sSup>
                      </m:e>
                    </m:d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kons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6" name=""/>
          <p:cNvSpPr/>
          <p:nvPr/>
        </p:nvSpPr>
        <p:spPr>
          <a:xfrm>
            <a:off x="3074760" y="2056320"/>
            <a:ext cx="4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h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4103640" y="1828800"/>
                <a:ext cx="1990800" cy="888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y</m:t>
                            </m:r>
                          </m:e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tr</m:t>
                            </m:r>
                          </m:sup>
                        </m:s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dy</m:t>
                        </m:r>
                      </m:den>
                    </m:f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t xml:space="preserve">α</m:t>
                        </m:r>
                      </m:sup>
                    </m:s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kons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5679CA-5B7F-4C73-A648-BC75450CD55B}" type="slidenum">
              <a:t>13</a:t>
            </a:fld>
          </a:p>
        </p:txBody>
      </p:sp>
    </p:spTree>
  </p:cSld>
  <p:transition>
    <p:checker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8" name=""/>
          <p:cNvGraphicFramePr/>
          <p:nvPr/>
        </p:nvGraphicFramePr>
        <p:xfrm>
          <a:off x="685800" y="2448000"/>
          <a:ext cx="6051600" cy="36576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448000"/>
                    <a:ext cx="6051600" cy="36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1219320" y="609480"/>
                <a:ext cx="3905280" cy="965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y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tr</m:t>
                        </m:r>
                      </m:sup>
                    </m:sSup>
                    <m:r>
                      <m:t xml:space="preserve">=</m:t>
                    </m:r>
                    <m:nary>
                      <m:naryPr>
                        <m:chr m:val="∫"/>
                        <m:subHide m:val="1"/>
                        <m:supHide m:val="1"/>
                      </m:naryPr>
                      <m:sub/>
                      <m:sup/>
                      <m:e>
                        <m:sSup>
                          <m:e>
                            <m:r>
                              <m:t xml:space="preserve">y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α</m:t>
                            </m:r>
                          </m:sup>
                        </m:sSup>
                      </m:e>
                    </m:nary>
                    <m:r>
                      <m:rPr>
                        <m:lit/>
                        <m:nor/>
                      </m:rPr>
                      <m:t xml:space="preserve">dy</m:t>
                    </m:r>
                    <m:r>
                      <m:t xml:space="preserve">=</m:t>
                    </m:r>
                    <m:eqArr>
                      <m:e>
                        <m:d>
                          <m:dPr>
                            <m:begChr m:val="{"/>
                            <m:endChr m:val=""/>
                          </m:dPr>
                          <m:e>
                            <m:sSup>
                              <m:e>
                                <m:r>
                                  <m:t xml:space="preserve">y</m:t>
                                </m:r>
                              </m:e>
                              <m:sup>
                                <m:r>
                                  <m:t xml:space="preserve">1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α</m:t>
                                </m:r>
                              </m:sup>
                            </m:sSup>
                            <m:r>
                              <m:t xml:space="preserve"> 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ha</m:t>
                            </m:r>
                            <m:r>
                              <m:t xml:space="preserve"> </m:t>
                            </m:r>
                            <m:r>
                              <m:t xml:space="preserve">α</m:t>
                            </m:r>
                            <m:r>
                              <m:t xml:space="preserve">≠</m:t>
                            </m:r>
                            <m:r>
                              <m:t xml:space="preserve">1</m:t>
                            </m:r>
                          </m:e>
                          <m:e/>
                        </m:d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21" name=""/>
          <p:cNvSpPr/>
          <p:nvPr/>
        </p:nvSpPr>
        <p:spPr>
          <a:xfrm flipH="1">
            <a:off x="6705720" y="342900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CFC9D7-9ABD-43E8-8F05-768CA647BCFF}" type="slidenum">
              <a:t>14</a:t>
            </a:fld>
          </a:p>
        </p:txBody>
      </p:sp>
    </p:spTree>
  </p:cSld>
  <p:transition>
    <p:checke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2" name=""/>
          <p:cNvGraphicFramePr/>
          <p:nvPr/>
        </p:nvGraphicFramePr>
        <p:xfrm>
          <a:off x="304920" y="228600"/>
          <a:ext cx="435456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28600"/>
                    <a:ext cx="435456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4" name=""/>
          <p:cNvGraphicFramePr/>
          <p:nvPr/>
        </p:nvGraphicFramePr>
        <p:xfrm>
          <a:off x="4495680" y="2666880"/>
          <a:ext cx="4648320" cy="3476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95680" y="2666880"/>
                    <a:ext cx="4648320" cy="3476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6" name=""/>
          <p:cNvSpPr/>
          <p:nvPr/>
        </p:nvSpPr>
        <p:spPr>
          <a:xfrm>
            <a:off x="6017760" y="533520"/>
            <a:ext cx="167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helyett 1/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28E814-B553-4484-9C64-0E09DE73C352}" type="slidenum">
              <a:t>15</a:t>
            </a:fld>
          </a:p>
        </p:txBody>
      </p:sp>
    </p:spTree>
  </p:cSld>
  <p:transition>
    <p:checker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7" name=""/>
          <p:cNvGraphicFramePr/>
          <p:nvPr/>
        </p:nvGraphicFramePr>
        <p:xfrm>
          <a:off x="1219320" y="838080"/>
          <a:ext cx="6553080" cy="4902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219320" y="838080"/>
                    <a:ext cx="6553080" cy="490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93D88B-B9F3-4274-B439-FF4A7B7A38D4}" type="slidenum">
              <a:t>16</a:t>
            </a:fld>
          </a:p>
        </p:txBody>
      </p:sp>
    </p:spTree>
  </p:cSld>
  <p:transition>
    <p:checker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9" name=""/>
          <p:cNvGraphicFramePr/>
          <p:nvPr/>
        </p:nvGraphicFramePr>
        <p:xfrm>
          <a:off x="990720" y="1143000"/>
          <a:ext cx="6019560" cy="2303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143000"/>
                    <a:ext cx="6019560" cy="23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"/>
          <p:cNvSpPr/>
          <p:nvPr/>
        </p:nvSpPr>
        <p:spPr>
          <a:xfrm>
            <a:off x="593640" y="4861080"/>
            <a:ext cx="8016840" cy="97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A hatások még kifejezettebbek (</a:t>
            </a:r>
            <a:r>
              <a:rPr b="0" i="1" lang="hu-HU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értékei nagyobbak), a kölcsönhatáshoz tartozó </a:t>
            </a:r>
            <a:r>
              <a:rPr b="0" i="1" lang="hu-HU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 0.112 helyett 0.387 lesz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8C9AA2-A445-421E-97E6-C6B2B4B1C546}" type="slidenum">
              <a:t>17</a:t>
            </a:fld>
          </a:p>
        </p:txBody>
      </p:sp>
    </p:spTree>
  </p:cSld>
  <p:transition>
    <p:checker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2" name=""/>
          <p:cNvGraphicFramePr/>
          <p:nvPr/>
        </p:nvGraphicFramePr>
        <p:xfrm>
          <a:off x="304920" y="1143000"/>
          <a:ext cx="434340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143000"/>
                    <a:ext cx="434340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4800600" y="3048120"/>
          <a:ext cx="4343400" cy="3257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800600" y="3048120"/>
                    <a:ext cx="4343400" cy="325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609840" y="304920"/>
            <a:ext cx="373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A reziduumok vizsgál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89B52F-3442-4F05-ACC0-26C923F4C382}" type="slidenum">
              <a:t>18</a:t>
            </a:fld>
          </a:p>
        </p:txBody>
      </p:sp>
    </p:spTree>
  </p:cSld>
  <p:transition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2" name=""/>
          <p:cNvGraphicFramePr/>
          <p:nvPr/>
        </p:nvGraphicFramePr>
        <p:xfrm>
          <a:off x="2362320" y="1295280"/>
          <a:ext cx="5956200" cy="5145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62320" y="1295280"/>
                    <a:ext cx="5956200" cy="514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" name=""/>
          <p:cNvSpPr/>
          <p:nvPr/>
        </p:nvSpPr>
        <p:spPr>
          <a:xfrm>
            <a:off x="609480" y="110880"/>
            <a:ext cx="8229600" cy="1300320"/>
          </a:xfrm>
          <a:prstGeom prst="rect">
            <a:avLst/>
          </a:prstGeom>
          <a:noFill/>
          <a:ln w="507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. pél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(Box-Hunter-Hunter: Statistics for Experimenters, J. Wiley, 1978, p. 165) 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poison.s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D2A7C5-7482-4E52-95C8-479ECAA6566A}" type="slidenum">
              <a:t>2</a:t>
            </a:fld>
          </a:p>
        </p:txBody>
      </p:sp>
    </p:spTree>
  </p:cSld>
  <p:transition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685800" y="685800"/>
          <a:ext cx="7238880" cy="5429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685800"/>
                    <a:ext cx="7238880" cy="542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95BA95-F35A-42E3-BE76-49D1864A2F78}" type="slidenum">
              <a:t>3</a:t>
            </a:fld>
          </a:p>
        </p:txBody>
      </p:sp>
    </p:spTree>
  </p:cSld>
  <p:transition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2133720" y="1219320"/>
                <a:ext cx="177300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k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8" name=""/>
              <p:cNvSpPr txBox="1"/>
              <p:nvPr/>
            </p:nvSpPr>
            <p:spPr>
              <a:xfrm>
                <a:off x="990720" y="4419720"/>
                <a:ext cx="3537000" cy="48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k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μ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αβ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49" name=""/>
          <p:cNvSpPr/>
          <p:nvPr/>
        </p:nvSpPr>
        <p:spPr>
          <a:xfrm>
            <a:off x="1446480" y="2665800"/>
            <a:ext cx="327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méreg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kezelé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438280" y="1752120"/>
            <a:ext cx="762120" cy="762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H="1" flipV="1">
            <a:off x="3428640" y="1752120"/>
            <a:ext cx="609480" cy="838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809600" y="190404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sm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é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l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é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 (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H="1" flipV="1">
            <a:off x="4343040" y="1676520"/>
            <a:ext cx="30492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4760" y="456120"/>
            <a:ext cx="106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od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51920" y="5378760"/>
            <a:ext cx="8159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az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edik méreg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edik kezelé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kölcsönhatá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hatása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hatá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2286000" y="4952880"/>
            <a:ext cx="30492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H="1" flipV="1">
            <a:off x="3428640" y="4952880"/>
            <a:ext cx="68580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4343400" y="4952880"/>
            <a:ext cx="236232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932280" y="303840"/>
            <a:ext cx="3875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=1,…,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;  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=1,…,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 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=1,…,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0" name=""/>
              <p:cNvSpPr txBox="1"/>
              <p:nvPr/>
            </p:nvSpPr>
            <p:spPr>
              <a:xfrm>
                <a:off x="5867280" y="1143000"/>
                <a:ext cx="2751120" cy="409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qp</m:t>
                    </m:r>
                    <m:r>
                      <m:t xml:space="preserve">=</m:t>
                    </m:r>
                    <m:r>
                      <m:t xml:space="preserve">3</m:t>
                    </m:r>
                    <m:r>
                      <m:t xml:space="preserve">⋅</m:t>
                    </m:r>
                    <m:r>
                      <m:t xml:space="preserve">4</m:t>
                    </m:r>
                    <m:r>
                      <m:t xml:space="preserve">⋅</m:t>
                    </m:r>
                    <m:r>
                      <m:t xml:space="preserve">4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48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107A64-9D42-4C2A-BB1A-5A007A994B65}" type="slidenum">
              <a:t>4</a:t>
            </a:fld>
          </a:p>
        </p:txBody>
      </p:sp>
    </p:spTree>
  </p:cSld>
  <p:transition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2514600" y="1446840"/>
            <a:ext cx="5517360" cy="459720"/>
            <a:chOff x="2514600" y="1446840"/>
            <a:chExt cx="5517360" cy="459720"/>
          </a:xfrm>
        </p:grpSpPr>
        <mc:AlternateContent>
          <mc:Choice xmlns:a14="http://schemas.microsoft.com/office/drawing/2010/main" Requires="a14">
            <p:sp>
              <p:nvSpPr>
                <p:cNvPr id="62" name=""/>
                <p:cNvSpPr txBox="1"/>
                <p:nvPr/>
              </p:nvSpPr>
              <p:spPr>
                <a:xfrm>
                  <a:off x="2514600" y="1447920"/>
                  <a:ext cx="2870280" cy="458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H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:</m:t>
                      </m:r>
                      <m:sSub>
                        <m:e>
                          <m:r>
                            <m:t xml:space="preserve">m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11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m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12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⋅</m:t>
                      </m:r>
                      <m:r>
                        <m:t xml:space="preserve">=</m:t>
                      </m:r>
                      <m:sSub>
                        <m:e>
                          <m:r>
                            <m:t xml:space="preserve">m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34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63" name=""/>
            <p:cNvSpPr/>
            <p:nvPr/>
          </p:nvSpPr>
          <p:spPr>
            <a:xfrm>
              <a:off x="6095160" y="1446840"/>
              <a:ext cx="1936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(</a:t>
              </a:r>
              <a:r>
                <a:rPr b="0" lang="hu-HU" sz="2400" spc="-1" strike="noStrike">
                  <a:solidFill>
                    <a:srgbClr val="000000"/>
                  </a:solidFill>
                  <a:latin typeface="Times New Roman"/>
                </a:rPr>
                <a:t>mind azonos</a:t>
              </a:r>
              <a:r>
                <a:rPr b="0" lang="en-GB" sz="2400" spc="-1" strike="noStrike">
                  <a:solidFill>
                    <a:srgbClr val="000000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4" name=""/>
          <p:cNvGrpSpPr/>
          <p:nvPr/>
        </p:nvGrpSpPr>
        <p:grpSpPr>
          <a:xfrm>
            <a:off x="1295280" y="609480"/>
            <a:ext cx="5152680" cy="534960"/>
            <a:chOff x="1295280" y="609480"/>
            <a:chExt cx="5152680" cy="534960"/>
          </a:xfrm>
        </p:grpSpPr>
        <mc:AlternateContent>
          <mc:Choice xmlns:a14="http://schemas.microsoft.com/office/drawing/2010/main" Requires="a14">
            <p:sp>
              <p:nvSpPr>
                <p:cNvPr id="65" name=""/>
                <p:cNvSpPr txBox="1"/>
                <p:nvPr/>
              </p:nvSpPr>
              <p:spPr>
                <a:xfrm>
                  <a:off x="1295280" y="609480"/>
                  <a:ext cx="1773360" cy="484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y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ijk</m:t>
                          </m:r>
                        </m:sub>
                      </m:sSub>
                      <m:r>
                        <m:t xml:space="preserve">=</m:t>
                      </m:r>
                      <m:sSub>
                        <m:e>
                          <m:r>
                            <m:t xml:space="preserve">μ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ij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ε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ijk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66" name=""/>
            <p:cNvSpPr/>
            <p:nvPr/>
          </p:nvSpPr>
          <p:spPr>
            <a:xfrm>
              <a:off x="4721760" y="684720"/>
              <a:ext cx="1726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400" spc="-1" strike="noStrike">
                  <a:solidFill>
                    <a:srgbClr val="000000"/>
                  </a:solidFill>
                  <a:latin typeface="Times New Roman"/>
                </a:rPr>
                <a:t>átlag-model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" name=""/>
          <p:cNvGrpSpPr/>
          <p:nvPr/>
        </p:nvGrpSpPr>
        <p:grpSpPr>
          <a:xfrm>
            <a:off x="1295280" y="2437200"/>
            <a:ext cx="6634800" cy="483840"/>
            <a:chOff x="1295280" y="2437200"/>
            <a:chExt cx="6634800" cy="483840"/>
          </a:xfrm>
        </p:grpSpPr>
        <mc:AlternateContent>
          <mc:Choice xmlns:a14="http://schemas.microsoft.com/office/drawing/2010/main" Requires="a14">
            <p:sp>
              <p:nvSpPr>
                <p:cNvPr id="68" name=""/>
                <p:cNvSpPr txBox="1"/>
                <p:nvPr/>
              </p:nvSpPr>
              <p:spPr>
                <a:xfrm>
                  <a:off x="1295280" y="2438280"/>
                  <a:ext cx="3537000" cy="482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y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ijk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μ</m:t>
                      </m:r>
                      <m:r>
                        <m:t xml:space="preserve">+</m:t>
                      </m:r>
                      <m:sSub>
                        <m:e>
                          <m:r>
                            <m:t xml:space="preserve">α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β</m:t>
                          </m:r>
                        </m:e>
                        <m:sub>
                          <m:r>
                            <m:t xml:space="preserve">j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rPr>
                              <m:lit/>
                              <m:nor/>
                            </m:rPr>
                            <m:t xml:space="preserve">αβ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ij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ε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ijk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69" name=""/>
            <p:cNvSpPr/>
            <p:nvPr/>
          </p:nvSpPr>
          <p:spPr>
            <a:xfrm>
              <a:off x="6170400" y="2437200"/>
              <a:ext cx="1759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400" spc="-1" strike="noStrike">
                  <a:solidFill>
                    <a:srgbClr val="000000"/>
                  </a:solidFill>
                  <a:latin typeface="Times New Roman"/>
                </a:rPr>
                <a:t>hatás-model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70" name=""/>
              <p:cNvSpPr txBox="1"/>
              <p:nvPr/>
            </p:nvSpPr>
            <p:spPr>
              <a:xfrm>
                <a:off x="2819520" y="3352680"/>
                <a:ext cx="263988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A</m:t>
                        </m:r>
                      </m:sup>
                    </m:sSubSup>
                    <m:r>
                      <m:t xml:space="preserve">: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2743200" y="4267080"/>
                <a:ext cx="299556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B</m:t>
                        </m:r>
                      </m:sup>
                    </m:sSubSup>
                    <m:r>
                      <m:t xml:space="preserve">: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j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2743200" y="5105520"/>
                <a:ext cx="4487760" cy="506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p>
                    </m:sSubSup>
                    <m:r>
                      <m:t xml:space="preserve">:</m:t>
                    </m:r>
                    <m:r>
                      <m:t xml:space="preserve"> 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αβ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r</m:t>
                    </m:r>
                    <m:r>
                      <m:t xml:space="preserve">;</m:t>
                    </m:r>
                    <m:r>
                      <m:t xml:space="preserve"></m:t>
                    </m:r>
                    <m:r>
                      <m:t xml:space="preserve"> </m:t>
                    </m:r>
                    <m:r>
                      <m:t xml:space="preserve">j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q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B6A8C0-E9CD-47D7-96C4-D2B6D28ABA65}" type="slidenum">
              <a:t>5</a:t>
            </a:fld>
          </a:p>
        </p:txBody>
      </p:sp>
    </p:spTree>
  </p:cSld>
  <p:transition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89960" y="273960"/>
            <a:ext cx="27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NOVA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-tábláz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5715000" y="4571640"/>
            <a:ext cx="838080" cy="762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742360" y="5256720"/>
            <a:ext cx="192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4-1)=3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380880" y="838080"/>
          <a:ext cx="8534520" cy="5257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838080"/>
                    <a:ext cx="853452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30769D-DFB9-4D9B-93A7-A31C446194CC}" type="slidenum">
              <a:t>6</a:t>
            </a:fld>
          </a:p>
        </p:txBody>
      </p:sp>
    </p:spTree>
  </p:cSld>
  <p:transition>
    <p:checke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"/>
          <p:cNvGraphicFramePr/>
          <p:nvPr/>
        </p:nvGraphicFramePr>
        <p:xfrm>
          <a:off x="457200" y="3962520"/>
          <a:ext cx="7086600" cy="2465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962520"/>
                    <a:ext cx="7086600" cy="246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" name=""/>
          <p:cNvGraphicFramePr/>
          <p:nvPr/>
        </p:nvGraphicFramePr>
        <p:xfrm>
          <a:off x="0" y="0"/>
          <a:ext cx="5334120" cy="3525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5334120" cy="3525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2" name=""/>
          <p:cNvSpPr/>
          <p:nvPr/>
        </p:nvSpPr>
        <p:spPr>
          <a:xfrm>
            <a:off x="5334120" y="-3240"/>
            <a:ext cx="38098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Statistics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Advanced Linear/Nonlinear Models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&gt;General Linear Models&gt;Factorial ANOV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Means fülön: Observed, unweighted, Pl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390640" y="3427920"/>
            <a:ext cx="353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mmary fülön: All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775870-BC60-4E19-BF1D-452D95800E6B}" type="slidenum">
              <a:t>7</a:t>
            </a:fld>
          </a:p>
        </p:txBody>
      </p:sp>
    </p:spTree>
  </p:cSld>
  <p:transition>
    <p:checke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4" name=""/>
          <p:cNvGraphicFramePr/>
          <p:nvPr/>
        </p:nvGraphicFramePr>
        <p:xfrm>
          <a:off x="685800" y="2514600"/>
          <a:ext cx="5334120" cy="1365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14600"/>
                    <a:ext cx="5334120" cy="136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" name=""/>
          <p:cNvGraphicFramePr/>
          <p:nvPr/>
        </p:nvGraphicFramePr>
        <p:xfrm>
          <a:off x="685800" y="4267080"/>
          <a:ext cx="5867280" cy="1567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85800" y="4267080"/>
                    <a:ext cx="5867280" cy="156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"/>
          <p:cNvSpPr/>
          <p:nvPr/>
        </p:nvSpPr>
        <p:spPr>
          <a:xfrm>
            <a:off x="683280" y="380880"/>
            <a:ext cx="275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Homoszkedaszticitá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5319720" y="533520"/>
                <a:ext cx="1417680" cy="48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e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kons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0" name=""/>
          <p:cNvSpPr/>
          <p:nvPr/>
        </p:nvSpPr>
        <p:spPr>
          <a:xfrm>
            <a:off x="7086600" y="532440"/>
            <a:ext cx="3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86440" y="1336680"/>
            <a:ext cx="758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More result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gt;Assumptions f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ülö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: Homogeneity of varian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DCB3BD-ABCC-4E81-A117-E92A290E87A1}" type="slidenum">
              <a:t>8</a:t>
            </a:fld>
          </a:p>
        </p:txBody>
      </p:sp>
    </p:spTree>
  </p:cSld>
  <p:transition>
    <p:checke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2" name=""/>
          <p:cNvGraphicFramePr/>
          <p:nvPr/>
        </p:nvGraphicFramePr>
        <p:xfrm>
          <a:off x="685800" y="1828800"/>
          <a:ext cx="5943600" cy="445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828800"/>
                    <a:ext cx="5943600" cy="445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590760" y="379800"/>
            <a:ext cx="32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A reziduumok vizsgál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90760" y="955800"/>
            <a:ext cx="409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Residuals1 fülön: Pred.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amp; resi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344DBB-57C7-42E9-98ED-E16627DF73D5}" type="slidenum">
              <a:t>9</a:t>
            </a:fld>
          </a:p>
        </p:txBody>
      </p:sp>
    </p:spTree>
  </p:cSld>
  <p:transition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6T17:27:07Z</dcterms:created>
  <dc:creator>Kemeny S.</dc:creator>
  <dc:description/>
  <dc:language>en-US</dc:language>
  <cp:lastModifiedBy>Sandor Kemeny</cp:lastModifiedBy>
  <cp:lastPrinted>2004-03-28T17:40:53Z</cp:lastPrinted>
  <dcterms:modified xsi:type="dcterms:W3CDTF">2008-04-14T15:39:22Z</dcterms:modified>
  <cp:revision>227</cp:revision>
  <dc:subject/>
  <dc:title>Folyamatkepessegi elemzes</dc:title>
</cp:coreProperties>
</file>