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embeddings/oleObject1.bin" ContentType="application/vnd.openxmlformats-officedocument.oleObject"/>
  <Override PartName="/ppt/embeddings/oleObject2.docx" ContentType="application/vnd.openxmlformats-officedocument.wordprocessingml.documen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0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media/image30.wmf" ContentType="image/x-wmf"/>
  <Override PartName="/ppt/media/image35.wmf" ContentType="image/x-wmf"/>
  <Override PartName="/ppt/media/image5.wmf" ContentType="image/x-wmf"/>
  <Override PartName="/ppt/media/image28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1.wmf" ContentType="image/x-wmf"/>
  <Override PartName="/ppt/media/image1.wmf" ContentType="image/x-wmf"/>
  <Override PartName="/ppt/media/image24.wmf" ContentType="image/x-wmf"/>
  <Override PartName="/ppt/media/image14.wmf" ContentType="image/x-wmf"/>
  <Override PartName="/ppt/media/image15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6583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65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85840" y="-36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014120" y="723600"/>
            <a:ext cx="4830840" cy="3622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587840"/>
            <a:ext cx="5029200" cy="434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-36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8584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F72ED-CB19-4475-8F1C-C283A716942D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 txBox="1"/>
          <p:nvPr/>
        </p:nvSpPr>
        <p:spPr>
          <a:xfrm>
            <a:off x="388584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1A4F-092C-45C3-B659-C27AC94CB626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 txBox="1"/>
          <p:nvPr/>
        </p:nvSpPr>
        <p:spPr>
          <a:xfrm>
            <a:off x="-36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023840" y="731880"/>
            <a:ext cx="4811760" cy="360828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400" y="4587840"/>
            <a:ext cx="502920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 txBox="1"/>
          <p:nvPr/>
        </p:nvSpPr>
        <p:spPr>
          <a:xfrm>
            <a:off x="388584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13CE0-51FD-4C8B-9BF3-F673B892FD79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 txBox="1"/>
          <p:nvPr/>
        </p:nvSpPr>
        <p:spPr>
          <a:xfrm>
            <a:off x="-36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1"/>
          <p:cNvSpPr>
            <a:spLocks noGrp="1"/>
          </p:cNvSpPr>
          <p:nvPr>
            <p:ph type="sldImg"/>
          </p:nvPr>
        </p:nvSpPr>
        <p:spPr>
          <a:xfrm>
            <a:off x="1023840" y="731880"/>
            <a:ext cx="4811760" cy="3608280"/>
          </a:xfrm>
          <a:prstGeom prst="rect">
            <a:avLst/>
          </a:prstGeom>
          <a:ln w="0">
            <a:noFill/>
          </a:ln>
        </p:spPr>
      </p:sp>
      <p:sp>
        <p:nvSpPr>
          <p:cNvPr id="341" name="PlaceHolder 2"/>
          <p:cNvSpPr>
            <a:spLocks noGrp="1"/>
          </p:cNvSpPr>
          <p:nvPr>
            <p:ph type="body"/>
          </p:nvPr>
        </p:nvSpPr>
        <p:spPr>
          <a:xfrm>
            <a:off x="914400" y="4587840"/>
            <a:ext cx="502920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 txBox="1"/>
          <p:nvPr/>
        </p:nvSpPr>
        <p:spPr>
          <a:xfrm>
            <a:off x="388584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DE05-22F6-488E-8C62-73A772747893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 txBox="1"/>
          <p:nvPr/>
        </p:nvSpPr>
        <p:spPr>
          <a:xfrm>
            <a:off x="-36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023840" y="731880"/>
            <a:ext cx="4811760" cy="36082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587840"/>
            <a:ext cx="502920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"/>
          <p:cNvSpPr txBox="1"/>
          <p:nvPr/>
        </p:nvSpPr>
        <p:spPr>
          <a:xfrm>
            <a:off x="388584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43D10-628E-4D91-8CB1-9705B137FE5B}" type="slidenum"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 txBox="1"/>
          <p:nvPr/>
        </p:nvSpPr>
        <p:spPr>
          <a:xfrm>
            <a:off x="-360" y="9175320"/>
            <a:ext cx="2971800" cy="48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sldImg"/>
          </p:nvPr>
        </p:nvSpPr>
        <p:spPr>
          <a:xfrm>
            <a:off x="1023840" y="731880"/>
            <a:ext cx="4811760" cy="3608280"/>
          </a:xfrm>
          <a:prstGeom prst="rect">
            <a:avLst/>
          </a:prstGeom>
          <a:ln w="0">
            <a:noFill/>
          </a:ln>
        </p:spPr>
      </p:sp>
      <p:sp>
        <p:nvSpPr>
          <p:cNvPr id="349" name="PlaceHolder 2"/>
          <p:cNvSpPr>
            <a:spLocks noGrp="1"/>
          </p:cNvSpPr>
          <p:nvPr>
            <p:ph type="body"/>
          </p:nvPr>
        </p:nvSpPr>
        <p:spPr>
          <a:xfrm>
            <a:off x="914400" y="4587840"/>
            <a:ext cx="5029200" cy="4346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755F42-0992-41AD-A6FD-DCE30440D93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7456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61600" y="4059000"/>
            <a:ext cx="7456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32C153-38D2-4F7F-A95F-30BC2647EA7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561600" y="405900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382280" y="405900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7D30A1-2CC2-4B7B-AE6F-164B26EDD4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83040" y="179028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604120" y="179028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61600" y="405900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83040" y="405900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604120" y="4059000"/>
            <a:ext cx="240084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F9B539-707B-40B3-A493-F406B2B6C58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561600" y="1790280"/>
            <a:ext cx="7456680" cy="4343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F770E7-04C6-4F26-BCB5-60D94F5C99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7456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571F27-2ADE-4756-8015-734D0D66D64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695EE1-377B-46BC-B035-5329ABEA2AC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54012-72AA-4EFD-8C8F-2A04441492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109600" y="151920"/>
            <a:ext cx="59086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0548C5-3F5F-477C-AAD8-EAD6E8D5F40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561600" y="405900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EAFC2C-7971-4629-A65C-A297F5337AF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382280" y="405900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74EC60-932F-4B1C-A05B-D61DA012579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160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382280" y="1790280"/>
            <a:ext cx="363852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61600" y="4059000"/>
            <a:ext cx="7456680" cy="207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1C601-EB2F-42BF-AA03-D81A68A23A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109600" y="151920"/>
            <a:ext cx="59086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1600" y="1790280"/>
            <a:ext cx="74566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9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9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243240" y="6400800"/>
            <a:ext cx="267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ANO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330960" y="6400800"/>
            <a:ext cx="17589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B7A064-4464-4AC5-AA5D-5C83A83CFC40}" type="slidenum">
              <a:rPr b="0" lang="hu-H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package" Target="../embeddings/oleObject2.docx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image" Target="../media/image2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1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5.wmf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6.wmf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8.wmf"/><Relationship Id="rId5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9.wmf"/><Relationship Id="rId3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0.wm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2.wmf"/><Relationship Id="rId5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5.wmf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7.wm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914040"/>
            <a:ext cx="7467840" cy="114300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200" spc="-1" strike="noStrike">
                <a:solidFill>
                  <a:srgbClr val="000000"/>
                </a:solidFill>
                <a:latin typeface="Times New Roman"/>
              </a:rPr>
              <a:t>VARIANCIAANALÍZIS (ANOVA) véletlen faktorok esetén</a:t>
            </a:r>
            <a:endParaRPr b="1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295280" y="3258720"/>
            <a:ext cx="6629400" cy="64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Variancia-komponens-elemzé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FAF1DE-3022-487D-92B2-7A61EDA67E4F}" type="slidenum">
              <a:t>1</a:t>
            </a:fld>
          </a:p>
        </p:txBody>
      </p:sp>
    </p:spTree>
  </p:cSld>
  <p:transition>
    <p:checke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990720" y="914400"/>
          <a:ext cx="6553080" cy="490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914400"/>
                    <a:ext cx="6553080" cy="49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9" name=""/>
          <p:cNvSpPr/>
          <p:nvPr/>
        </p:nvSpPr>
        <p:spPr>
          <a:xfrm>
            <a:off x="813240" y="270000"/>
            <a:ext cx="445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z eredeti átlag-terjedelem-kárty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56000" y="6019920"/>
            <a:ext cx="524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j van!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m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tabil a gyártási folyama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8A7C37-E1DF-4ED9-BDA9-870063448AC1}" type="slidenum">
              <a:t>10</a:t>
            </a:fld>
          </a:p>
        </p:txBody>
      </p:sp>
    </p:spTree>
  </p:cSld>
  <p:transition>
    <p:checker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33520" y="1371600"/>
            <a:ext cx="7772400" cy="389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it is akarunk az ellenőrző kártyával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lkülöníteni a véletlen ingadozást a veszélyes hibától. A véletlen ingadozást a szokásos esetben a mintán belüli eltérések mutatjá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tt a mintán belüli ingadozás csak egy része a véletlen ingadozásnak, a hónapok közöttit is figyelembe kell venn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7D1C6-71B7-4781-AE9C-41C4C4BA3F59}" type="slidenum">
              <a:t>11</a:t>
            </a:fld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380880" y="838080"/>
            <a:ext cx="8763120" cy="206244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446760" y="2819520"/>
            <a:ext cx="813456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hónapok közötti különbség tehát jelentő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djunk becslést az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faktor (a hónapok) hatásának varianciájára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4" name=""/>
              <p:cNvSpPr txBox="1"/>
              <p:nvPr/>
            </p:nvSpPr>
            <p:spPr>
              <a:xfrm>
                <a:off x="609480" y="4114800"/>
                <a:ext cx="4800600" cy="841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832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2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35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5" name=""/>
          <p:cNvSpPr/>
          <p:nvPr/>
        </p:nvSpPr>
        <p:spPr>
          <a:xfrm>
            <a:off x="449280" y="5105520"/>
            <a:ext cx="4940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ismétlések varianciájának becslés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6" name=""/>
              <p:cNvSpPr txBox="1"/>
              <p:nvPr/>
            </p:nvSpPr>
            <p:spPr>
              <a:xfrm>
                <a:off x="2819520" y="5867280"/>
                <a:ext cx="1981080" cy="439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2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7" name=""/>
          <p:cNvSpPr/>
          <p:nvPr/>
        </p:nvSpPr>
        <p:spPr>
          <a:xfrm>
            <a:off x="379080" y="152280"/>
            <a:ext cx="369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OVA (varianciaanalízis)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1F089D-E6CC-41A5-9130-9B7B39DAF856}" type="slidenum">
              <a:t>12</a:t>
            </a:fld>
          </a:p>
        </p:txBody>
      </p:sp>
    </p:spTree>
  </p:cSld>
  <p:transition>
    <p:checker dir="horz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762120" y="2743200"/>
                <a:ext cx="1495440" cy="4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35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"/>
              <p:cNvSpPr txBox="1"/>
              <p:nvPr/>
            </p:nvSpPr>
            <p:spPr>
              <a:xfrm>
                <a:off x="762120" y="1905120"/>
                <a:ext cx="1981080" cy="43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1527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20" name=""/>
          <p:cNvSpPr/>
          <p:nvPr/>
        </p:nvSpPr>
        <p:spPr>
          <a:xfrm>
            <a:off x="746280" y="574560"/>
            <a:ext cx="7864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beavatkozási határokat a szokásos esetben az ismétlések ingadozásából számolju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040920" y="1828800"/>
            <a:ext cx="527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ismétlések szórásnégyzetének becsl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895480" y="2743200"/>
            <a:ext cx="601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hónapok közötti ingadozás szórásnégyzetének becsl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838080" y="4038480"/>
                <a:ext cx="175284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f>
                      <m:num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24" name=""/>
          <p:cNvSpPr/>
          <p:nvPr/>
        </p:nvSpPr>
        <p:spPr>
          <a:xfrm flipV="1">
            <a:off x="762120" y="1828800"/>
            <a:ext cx="15228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914400" y="182880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762120" y="259056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990720" y="2590920"/>
            <a:ext cx="15228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065760" y="4191120"/>
            <a:ext cx="552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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zt kell a kártya beavatkozási határaihoz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sznál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14400" y="5410080"/>
                <a:ext cx="3860640" cy="78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acc>
                          <m:accPr>
                            <m:chr m:val="¯"/>
                          </m:accPr>
                          <m:e>
                            <m:r>
                              <m:t xml:space="preserve">y</m:t>
                            </m:r>
                          </m:e>
                        </m:acc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435</m:t>
                    </m:r>
                    <m:r>
                      <m:t xml:space="preserve">+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1527</m:t>
                        </m:r>
                      </m:num>
                      <m:den>
                        <m:r>
                          <m:t xml:space="preserve">3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2944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30" name=""/>
          <p:cNvSpPr/>
          <p:nvPr/>
        </p:nvSpPr>
        <p:spPr>
          <a:xfrm flipV="1">
            <a:off x="838080" y="5486040"/>
            <a:ext cx="22860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152640" cy="152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602D8-F15C-4AC3-AFBE-EB9481FD82CF}" type="slidenum">
              <a:t>13</a:t>
            </a:fld>
          </a:p>
        </p:txBody>
      </p:sp>
    </p:spTree>
  </p:cSld>
  <p:transition>
    <p:checker dir="horz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2" name=""/>
          <p:cNvGraphicFramePr/>
          <p:nvPr/>
        </p:nvGraphicFramePr>
        <p:xfrm>
          <a:off x="838080" y="1143000"/>
          <a:ext cx="6782040" cy="507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1143000"/>
                    <a:ext cx="6782040" cy="5073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4" name=""/>
          <p:cNvSpPr/>
          <p:nvPr/>
        </p:nvSpPr>
        <p:spPr>
          <a:xfrm>
            <a:off x="669960" y="117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22240" y="270000"/>
            <a:ext cx="79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kétrétegű ingadozást (hónap és ismétlés) figyelembe vevő beavatkozási határokkal rajzolt  kárty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FD93C6-7D00-4992-A392-EBAC343AFED2}" type="slidenum">
              <a:t>14</a:t>
            </a:fld>
          </a:p>
        </p:txBody>
      </p:sp>
    </p:spTree>
  </p:cSld>
  <p:transition>
    <p:checker dir="horz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90360" y="609480"/>
            <a:ext cx="7467480" cy="60984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ereszt-osztályozás két véletlen faktor szerin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914400" y="1905120"/>
            <a:ext cx="6950160" cy="404208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3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. pél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gy elemzést nemcsak különböző napokon végeztek el, hanem különböző személyek i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, hogy a mérést különböző napokon és különböző személyek végzik, okoz-e többlet-ingadozást az egy nap egy személy végezte ismétlések szóródásához képes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52824-3F9D-4CC9-953A-EE8C3C4B5767}" type="slidenum">
              <a:t>15</a:t>
            </a:fld>
          </a:p>
        </p:txBody>
      </p:sp>
    </p:spTree>
  </p:cSld>
  <p:transition>
    <p:checker dir="horz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8" name=""/>
          <p:cNvGraphicFramePr/>
          <p:nvPr/>
        </p:nvGraphicFramePr>
        <p:xfrm>
          <a:off x="0" y="1066680"/>
          <a:ext cx="8691480" cy="4484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066680"/>
                    <a:ext cx="8691480" cy="4484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A78CDD-61F4-4DD3-A699-80FCD54109CF}" type="slidenum">
              <a:t>16</a:t>
            </a:fld>
          </a:p>
        </p:txBody>
      </p:sp>
    </p:spTree>
  </p:cSld>
  <p:transition>
    <p:checker dir="horz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3124080" y="914400"/>
                <a:ext cx="369900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α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41" name=""/>
          <p:cNvSpPr/>
          <p:nvPr/>
        </p:nvSpPr>
        <p:spPr>
          <a:xfrm>
            <a:off x="685800" y="5181480"/>
            <a:ext cx="641664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példában 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3,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4,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46200" y="91332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od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756720" y="4342320"/>
            <a:ext cx="531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1,…,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;  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1,…,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;  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=1,…,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(ismétlé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00680" y="1904040"/>
            <a:ext cx="644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nap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zemély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ölcsönhatás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smétlési hi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2743200" y="1371600"/>
            <a:ext cx="167652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191120" y="1371240"/>
            <a:ext cx="76176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 flipH="1" flipV="1">
            <a:off x="5638680" y="1371600"/>
            <a:ext cx="152640" cy="380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6477120" y="1447560"/>
            <a:ext cx="1218960" cy="5331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780960" y="3504240"/>
            <a:ext cx="172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üggetlenek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762120" y="2895480"/>
                <a:ext cx="173664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3174840" y="2882880"/>
                <a:ext cx="178920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6080040" y="2806560"/>
                <a:ext cx="207324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α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825480" y="3581280"/>
                <a:ext cx="1608120" cy="489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ε</m:t>
                    </m:r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BDE506-8BCD-406F-9085-AE8103DB8335}" type="slidenum">
              <a:t>17</a:t>
            </a:fld>
          </a:p>
        </p:txBody>
      </p:sp>
    </p:spTree>
  </p:cSld>
  <p:transition>
    <p:checker dir="horz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457200" y="685800"/>
                <a:ext cx="373392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α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3772080" y="1828800"/>
                <a:ext cx="147924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3772080" y="2666880"/>
                <a:ext cx="14824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B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7" name=""/>
              <p:cNvSpPr txBox="1"/>
              <p:nvPr/>
            </p:nvSpPr>
            <p:spPr>
              <a:xfrm>
                <a:off x="3770280" y="3505320"/>
                <a:ext cx="17017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8" name=""/>
          <p:cNvSpPr/>
          <p:nvPr/>
        </p:nvSpPr>
        <p:spPr>
          <a:xfrm>
            <a:off x="379440" y="1827720"/>
            <a:ext cx="23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nullhipotézis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9" name=""/>
              <p:cNvSpPr txBox="1"/>
              <p:nvPr/>
            </p:nvSpPr>
            <p:spPr>
              <a:xfrm>
                <a:off x="1066680" y="4495680"/>
                <a:ext cx="3397320" cy="507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ytotal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sp>
        <p:nvSpPr>
          <p:cNvPr id="160" name=""/>
          <p:cNvSpPr/>
          <p:nvPr/>
        </p:nvSpPr>
        <p:spPr>
          <a:xfrm>
            <a:off x="986400" y="5409000"/>
            <a:ext cx="442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Növelik az ingadozást? Mennyir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796280" y="684720"/>
            <a:ext cx="438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nap, személy, kölcsönhatás, hib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CB8B98-40B6-4ACD-A928-A9E3535D1C25}" type="slidenum">
              <a:t>18</a:t>
            </a:fld>
          </a:p>
        </p:txBody>
      </p:sp>
    </p:spTree>
  </p:cSld>
  <p:transition>
    <p:checker dir="horz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2" name=""/>
          <p:cNvGraphicFramePr/>
          <p:nvPr/>
        </p:nvGraphicFramePr>
        <p:xfrm>
          <a:off x="0" y="1295280"/>
          <a:ext cx="9144000" cy="4953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144000" cy="495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4" name=""/>
          <p:cNvSpPr/>
          <p:nvPr/>
        </p:nvSpPr>
        <p:spPr>
          <a:xfrm>
            <a:off x="763560" y="533520"/>
            <a:ext cx="26874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NOVA-tábláz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8CA32-BA4B-4F6C-BBAE-E7E2A30BC43A}" type="slidenum">
              <a:t>19</a:t>
            </a:fld>
          </a:p>
        </p:txBody>
      </p:sp>
    </p:spTree>
  </p:cSld>
  <p:transition>
    <p:checke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380880" y="380880"/>
            <a:ext cx="8534520" cy="55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Rögzített faktorok: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zintjeiket a kísérletekhez megválaszthatjuk és beállíthatjuk.</a:t>
            </a: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érdés:</a:t>
            </a:r>
            <a:r>
              <a:rPr b="0" lang="hu-HU" sz="20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an-e különbség a faktor különböző szintjei között, melyik közülük a legjobb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Véletlen fakt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zintjeit egy elképzelt sokaságból véletlenszerűen választjuk k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érdés:</a:t>
            </a:r>
            <a:r>
              <a:rPr b="1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faktornak van-e hatása az ingadozásra, több véletlen faktor közül melyik milyen mértékben járul hozzá az ingadozáshoz, a jövőben mekkora ingadozás várható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15F76D-9551-40B0-A944-7AC342C745DD}" type="slidenum">
              <a:t>2</a:t>
            </a:fld>
          </a:p>
        </p:txBody>
      </p:sp>
    </p:spTree>
  </p:cSld>
  <p:transition>
    <p:checker dir="horz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5" name=""/>
          <p:cNvGraphicFramePr/>
          <p:nvPr/>
        </p:nvGraphicFramePr>
        <p:xfrm>
          <a:off x="0" y="1677960"/>
          <a:ext cx="9144000" cy="37321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77960"/>
                    <a:ext cx="9144000" cy="373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830880" y="685800"/>
            <a:ext cx="363708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példa adataival számolv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F9EF6-59F3-457C-A1E3-0A31A5607583}" type="slidenum">
              <a:t>20</a:t>
            </a:fld>
          </a:p>
        </p:txBody>
      </p:sp>
    </p:spTree>
  </p:cSld>
  <p:transition>
    <p:checker dir="horz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8" name=""/>
          <p:cNvGraphicFramePr/>
          <p:nvPr/>
        </p:nvGraphicFramePr>
        <p:xfrm>
          <a:off x="0" y="2133720"/>
          <a:ext cx="8763120" cy="258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133720"/>
                    <a:ext cx="8763120" cy="25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0" name=""/>
          <p:cNvSpPr/>
          <p:nvPr/>
        </p:nvSpPr>
        <p:spPr>
          <a:xfrm>
            <a:off x="457200" y="303120"/>
            <a:ext cx="7467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tatistics&gt;Advanced Linear/Nonlinear Model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gt;General Linear Models&gt;Factorial AN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Options fülön: Random Nap, Sz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1D3A1-64B7-414B-B976-59FA2A1DE9B2}" type="slidenum">
              <a:t>21</a:t>
            </a:fld>
          </a:p>
        </p:txBody>
      </p:sp>
    </p:spTree>
  </p:cSld>
  <p:transition>
    <p:checker dir="horz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1" name=""/>
          <p:cNvGraphicFramePr/>
          <p:nvPr/>
        </p:nvGraphicFramePr>
        <p:xfrm>
          <a:off x="457200" y="380880"/>
          <a:ext cx="6858000" cy="2583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380880"/>
                    <a:ext cx="6858000" cy="25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3" name=""/>
          <p:cNvGraphicFramePr/>
          <p:nvPr/>
        </p:nvGraphicFramePr>
        <p:xfrm>
          <a:off x="0" y="3048120"/>
          <a:ext cx="8458200" cy="350496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3048120"/>
                    <a:ext cx="8458200" cy="350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4D3C6F-E579-49D2-8C71-21DAAF517728}" type="slidenum">
              <a:t>22</a:t>
            </a:fld>
          </a:p>
        </p:txBody>
      </p:sp>
    </p:spTree>
  </p:cSld>
  <p:transition>
    <p:checker dir="horz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5" name=""/>
          <p:cNvGraphicFramePr/>
          <p:nvPr/>
        </p:nvGraphicFramePr>
        <p:xfrm>
          <a:off x="990720" y="3733920"/>
          <a:ext cx="6400800" cy="2508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3733920"/>
                    <a:ext cx="6400800" cy="250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7" name=""/>
          <p:cNvGraphicFramePr/>
          <p:nvPr/>
        </p:nvGraphicFramePr>
        <p:xfrm>
          <a:off x="0" y="0"/>
          <a:ext cx="9448920" cy="3581280"/>
        </p:xfrm>
        <a:graphic>
          <a:graphicData uri="http://schemas.openxmlformats.org/presentationml/2006/ole">
            <p:oleObj progId="Word.Document.12" r:id="rId3" spid="">
              <p:embed/>
              <p:pic>
                <p:nvPicPr>
                  <p:cNvPr id="17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0"/>
                    <a:ext cx="944892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88A3F9-04BF-4CD7-B43E-5441FC321B14}" type="slidenum">
              <a:t>23</a:t>
            </a:fld>
          </a:p>
        </p:txBody>
      </p:sp>
    </p:spTree>
  </p:cSld>
  <p:transition>
    <p:checker dir="horz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"/>
          <p:cNvGraphicFramePr/>
          <p:nvPr/>
        </p:nvGraphicFramePr>
        <p:xfrm>
          <a:off x="0" y="0"/>
          <a:ext cx="4495680" cy="31068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4495680" cy="310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181" name=""/>
              <p:cNvSpPr txBox="1"/>
              <p:nvPr/>
            </p:nvSpPr>
            <p:spPr>
              <a:xfrm>
                <a:off x="533520" y="3200400"/>
                <a:ext cx="2394000" cy="484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3428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2" name=""/>
              <p:cNvSpPr txBox="1"/>
              <p:nvPr/>
            </p:nvSpPr>
            <p:spPr>
              <a:xfrm>
                <a:off x="538200" y="3862440"/>
                <a:ext cx="5797440" cy="88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20317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431</m:t>
                        </m:r>
                      </m:num>
                      <m:den>
                        <m:r>
                          <m:t xml:space="preserve">8</m:t>
                        </m:r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223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3" name=""/>
              <p:cNvSpPr txBox="1"/>
              <p:nvPr/>
            </p:nvSpPr>
            <p:spPr>
              <a:xfrm>
                <a:off x="617400" y="4929120"/>
                <a:ext cx="626112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rp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108</m:t>
                        </m:r>
                        <m:r>
                          <m:t xml:space="preserve">−</m:t>
                        </m:r>
                        <m:r>
                          <m:t xml:space="preserve">0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02431</m:t>
                        </m:r>
                      </m:num>
                      <m:den>
                        <m:r>
                          <m:t xml:space="preserve">6</m:t>
                        </m:r>
                      </m:den>
                    </m:f>
                    <m:r>
                      <m:t xml:space="preserve">=</m:t>
                    </m:r>
                    <m:r>
                      <m:t xml:space="preserve">−</m:t>
                    </m:r>
                    <m:r>
                      <m:t xml:space="preserve">0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00225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184" name=""/>
          <p:cNvGraphicFramePr/>
          <p:nvPr/>
        </p:nvGraphicFramePr>
        <p:xfrm>
          <a:off x="4495680" y="457200"/>
          <a:ext cx="4648320" cy="2197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495680" y="457200"/>
                    <a:ext cx="4648320" cy="219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"/>
          <p:cNvSpPr/>
          <p:nvPr/>
        </p:nvSpPr>
        <p:spPr>
          <a:xfrm flipV="1">
            <a:off x="533520" y="3200400"/>
            <a:ext cx="15228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85800" y="320040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V="1">
            <a:off x="457200" y="4038480"/>
            <a:ext cx="22860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40384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609480" y="5105160"/>
            <a:ext cx="15264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62120" y="5105520"/>
            <a:ext cx="7596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C8826-3016-4DBD-B13E-19728BD56DEB}" type="slidenum">
              <a:t>24</a:t>
            </a:fld>
          </a:p>
        </p:txBody>
      </p:sp>
    </p:spTree>
  </p:cSld>
  <p:transition>
    <p:checker dir="horz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914040" y="339480"/>
            <a:ext cx="7543800" cy="99684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Kereszt-osztályozás két véletlen faktor szerint: Gage 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&amp;R study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294560" y="4114800"/>
            <a:ext cx="126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lkatrés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048120" y="4114800"/>
            <a:ext cx="119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operá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97920" y="2895480"/>
            <a:ext cx="187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smétlési hib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571640" y="4114800"/>
            <a:ext cx="175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ölcsönhat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97" name=""/>
              <p:cNvSpPr txBox="1"/>
              <p:nvPr/>
            </p:nvSpPr>
            <p:spPr>
              <a:xfrm>
                <a:off x="990720" y="2590920"/>
                <a:ext cx="368136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α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98" name=""/>
          <p:cNvSpPr/>
          <p:nvPr/>
        </p:nvSpPr>
        <p:spPr>
          <a:xfrm flipV="1">
            <a:off x="2133720" y="3047760"/>
            <a:ext cx="152280" cy="990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3047760" y="3123720"/>
            <a:ext cx="685800" cy="8384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3657600" y="3124080"/>
            <a:ext cx="1371600" cy="9907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 flipV="1">
            <a:off x="4647960" y="2895120"/>
            <a:ext cx="144756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694377-CF6D-447D-A2A1-4012B5D1898B}" type="slidenum">
              <a:t>25</a:t>
            </a:fld>
          </a:p>
        </p:txBody>
      </p:sp>
    </p:spTree>
  </p:cSld>
  <p:transition>
    <p:checker dir="horz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228600" y="2743200"/>
            <a:ext cx="7924680" cy="343692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9480" y="709200"/>
            <a:ext cx="7772400" cy="203760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4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. pél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Box-Hunter-Hunter: Statistics for Experimenters, J. Wiley, 1978, p. 2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Penicillin gyártása, 4 technológiát akarnak összehasonlítani, a kukoricalekvár-adagok különbözn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836280" y="5942520"/>
            <a:ext cx="190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nincs ismétl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770920" y="0"/>
            <a:ext cx="2382840" cy="52056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Véletlen blok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E3182D-E9E9-4B8A-8061-FAAE2307AD81}" type="slidenum">
              <a:t>26</a:t>
            </a:fld>
          </a:p>
        </p:txBody>
      </p:sp>
    </p:spTree>
  </p:cSld>
  <p:transition>
    <p:checker dir="horz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06" name=""/>
              <p:cNvSpPr txBox="1"/>
              <p:nvPr/>
            </p:nvSpPr>
            <p:spPr>
              <a:xfrm>
                <a:off x="1066680" y="1066680"/>
                <a:ext cx="367524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α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7" name=""/>
              <p:cNvSpPr txBox="1"/>
              <p:nvPr/>
            </p:nvSpPr>
            <p:spPr>
              <a:xfrm>
                <a:off x="762120" y="2971800"/>
                <a:ext cx="2790720" cy="479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 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8" name=""/>
              <p:cNvSpPr txBox="1"/>
              <p:nvPr/>
            </p:nvSpPr>
            <p:spPr>
              <a:xfrm>
                <a:off x="762120" y="4114800"/>
                <a:ext cx="15001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B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09" name=""/>
              <p:cNvSpPr txBox="1"/>
              <p:nvPr/>
            </p:nvSpPr>
            <p:spPr>
              <a:xfrm>
                <a:off x="685800" y="5410080"/>
                <a:ext cx="17398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p>
                    </m:sSubSup>
                    <m:r>
                      <m:t xml:space="preserve">:</m:t>
                    </m:r>
                    <m:r>
                      <m:t xml:space="preserve"> 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0" name=""/>
          <p:cNvSpPr/>
          <p:nvPr/>
        </p:nvSpPr>
        <p:spPr>
          <a:xfrm>
            <a:off x="3657600" y="2842200"/>
            <a:ext cx="5181480" cy="29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ülönbözik az egyes technológiákkal elérhető kitermelé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egnöveli a kuk. lekvár-adagok közötti különbség a kitermelés ingadozásá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an kölcsönhatás közöttü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09840" y="30384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od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2" name=""/>
              <p:cNvSpPr txBox="1"/>
              <p:nvPr/>
            </p:nvSpPr>
            <p:spPr>
              <a:xfrm>
                <a:off x="3048120" y="343080"/>
                <a:ext cx="4044960" cy="406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13" name=""/>
          <p:cNvSpPr/>
          <p:nvPr/>
        </p:nvSpPr>
        <p:spPr>
          <a:xfrm>
            <a:off x="1295280" y="1904040"/>
            <a:ext cx="330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technológi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uk.lekvá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 flipV="1">
            <a:off x="2057400" y="1523880"/>
            <a:ext cx="304920" cy="457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H="1" flipV="1">
            <a:off x="3123720" y="1523520"/>
            <a:ext cx="304920" cy="38124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21F03A-52EF-414F-9133-C5DD5F082292}" type="slidenum">
              <a:t>27</a:t>
            </a:fld>
          </a:p>
        </p:txBody>
      </p:sp>
    </p:spTree>
  </p:cSld>
  <p:transition>
    <p:checker dir="horz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6" name=""/>
          <p:cNvGraphicFramePr/>
          <p:nvPr/>
        </p:nvGraphicFramePr>
        <p:xfrm>
          <a:off x="0" y="990720"/>
          <a:ext cx="9104400" cy="50022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90720"/>
                    <a:ext cx="9104400" cy="500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8" name=""/>
          <p:cNvSpPr/>
          <p:nvPr/>
        </p:nvSpPr>
        <p:spPr>
          <a:xfrm>
            <a:off x="688320" y="304920"/>
            <a:ext cx="31888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ANOVA-tábláz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19" name=""/>
              <p:cNvSpPr txBox="1"/>
              <p:nvPr/>
            </p:nvSpPr>
            <p:spPr>
              <a:xfrm>
                <a:off x="6781680" y="4952880"/>
                <a:ext cx="1809720" cy="122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r</m:t>
                            </m:r>
                          </m:sup>
                          <m:e>
                            <m:sSubSup>
                              <m:e>
                                <m:r>
                                  <m:t xml:space="preserve">α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num>
                      <m:den>
                        <m:r>
                          <m:t xml:space="preserve">r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20" name=""/>
          <p:cNvSpPr/>
          <p:nvPr/>
        </p:nvSpPr>
        <p:spPr>
          <a:xfrm>
            <a:off x="228600" y="6107760"/>
            <a:ext cx="1666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1, </a:t>
            </a:r>
            <a:r>
              <a:rPr b="0" i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</a:t>
            </a:r>
            <a:r>
              <a:rPr b="0" lang="hu-HU" sz="2400" spc="-1" strike="noStrike" baseline="-25000">
                <a:solidFill>
                  <a:srgbClr val="000000"/>
                </a:solidFill>
                <a:latin typeface="Times New Roman"/>
              </a:rPr>
              <a:t>ism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=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1" name=""/>
              <p:cNvSpPr txBox="1"/>
              <p:nvPr/>
            </p:nvSpPr>
            <p:spPr>
              <a:xfrm>
                <a:off x="4724280" y="304920"/>
                <a:ext cx="40100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446064-BCC0-4796-B1C3-AAE9B0E5A0C2}" type="slidenum">
              <a:t>28</a:t>
            </a:fld>
          </a:p>
        </p:txBody>
      </p:sp>
    </p:spTree>
  </p:cSld>
  <p:transition>
    <p:checker dir="horz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22" name=""/>
          <p:cNvGraphicFramePr/>
          <p:nvPr/>
        </p:nvGraphicFramePr>
        <p:xfrm>
          <a:off x="380880" y="152280"/>
          <a:ext cx="7543800" cy="2048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52280"/>
                    <a:ext cx="7543800" cy="20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24" name=""/>
              <p:cNvSpPr txBox="1"/>
              <p:nvPr/>
            </p:nvSpPr>
            <p:spPr>
              <a:xfrm>
                <a:off x="533520" y="2362320"/>
                <a:ext cx="367488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α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5" name=""/>
          <p:cNvSpPr/>
          <p:nvPr/>
        </p:nvSpPr>
        <p:spPr>
          <a:xfrm>
            <a:off x="5026680" y="2361240"/>
            <a:ext cx="22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de nincs ismétlé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26" name=""/>
              <p:cNvSpPr txBox="1"/>
              <p:nvPr/>
            </p:nvSpPr>
            <p:spPr>
              <a:xfrm>
                <a:off x="990720" y="5562720"/>
                <a:ext cx="2660400" cy="479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27" name=""/>
          <p:cNvSpPr/>
          <p:nvPr/>
        </p:nvSpPr>
        <p:spPr>
          <a:xfrm>
            <a:off x="5103720" y="5637600"/>
            <a:ext cx="268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(nincs kölcsönhatá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609480" y="3581280"/>
          <a:ext cx="7543800" cy="2019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3581280"/>
                    <a:ext cx="7543800" cy="201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594720" y="3123000"/>
            <a:ext cx="285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ain effects AN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8FB240-2799-449F-95AA-C6FAD0C72EE4}" type="slidenum">
              <a:t>29</a:t>
            </a:fld>
          </a:p>
        </p:txBody>
      </p:sp>
    </p:spTree>
  </p:cSld>
  <p:transition>
    <p:checker dir="horz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838080" y="426960"/>
            <a:ext cx="7467840" cy="51912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gy véletlen faktor szerinti varianciaanalíz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762120" y="1600200"/>
            <a:ext cx="7772400" cy="192096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1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. pél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gy elemzést három napon kétszer-kétszer végeztek 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Okoz-e ingadozást az, hogy különböző napokon végezték a méréseke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914400" y="3733920"/>
          <a:ext cx="6477120" cy="23619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14400" y="3733920"/>
                    <a:ext cx="6477120" cy="236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9841A6-A186-4162-BEE3-4643025D82F7}" type="slidenum">
              <a:t>3</a:t>
            </a:fld>
          </a:p>
        </p:txBody>
      </p:sp>
    </p:spTree>
  </p:cSld>
  <p:transition>
    <p:checker dir="horz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1" name=""/>
          <p:cNvGraphicFramePr/>
          <p:nvPr/>
        </p:nvGraphicFramePr>
        <p:xfrm>
          <a:off x="3809880" y="2209680"/>
          <a:ext cx="4800600" cy="200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9880" y="2209680"/>
                    <a:ext cx="4800600" cy="200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33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3503520" cy="44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4" name=""/>
          <p:cNvGraphicFramePr/>
          <p:nvPr/>
        </p:nvGraphicFramePr>
        <p:xfrm>
          <a:off x="380880" y="0"/>
          <a:ext cx="7543800" cy="2048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80880" y="0"/>
                    <a:ext cx="7543800" cy="2048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36" name=""/>
          <p:cNvGraphicFramePr/>
          <p:nvPr/>
        </p:nvGraphicFramePr>
        <p:xfrm>
          <a:off x="3886200" y="4343400"/>
          <a:ext cx="5257800" cy="19573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23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886200" y="4343400"/>
                    <a:ext cx="5257800" cy="1957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8B76C-0036-47E2-B5F6-C00F22075CCA}" type="slidenum">
              <a:t>30</a:t>
            </a:fld>
          </a:p>
        </p:txBody>
      </p:sp>
    </p:spTree>
  </p:cSld>
  <p:transition>
    <p:checker dir="horz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4495680" y="1447920"/>
          <a:ext cx="4038840" cy="1684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95680" y="1447920"/>
                    <a:ext cx="4038840" cy="168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mc:AlternateContent>
        <mc:Choice xmlns:a14="http://schemas.microsoft.com/office/drawing/2010/main" Requires="a14">
          <p:sp>
            <p:nvSpPr>
              <p:cNvPr id="240" name=""/>
              <p:cNvSpPr txBox="1"/>
              <p:nvPr/>
            </p:nvSpPr>
            <p:spPr>
              <a:xfrm>
                <a:off x="4114800" y="3809880"/>
                <a:ext cx="4305240" cy="890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q</m:t>
                        </m:r>
                        <m:r>
                          <m:t xml:space="preserve">−</m:t>
                        </m:r>
                        <m:r>
                          <m:t xml:space="preserve">1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66</m:t>
                        </m:r>
                        <m:r>
                          <m:t xml:space="preserve">−</m:t>
                        </m:r>
                        <m:r>
                          <m:rPr>
                            <m:lit/>
                            <m:nor/>
                          </m:rPr>
                          <m:t xml:space="preserve">18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833</m:t>
                        </m:r>
                      </m:num>
                      <m:den>
                        <m:r>
                          <m:t xml:space="preserve">4</m:t>
                        </m:r>
                      </m:den>
                    </m:f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1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8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304920" y="457200"/>
            <a:ext cx="3865320" cy="487692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 flipH="1">
            <a:off x="6629400" y="2438280"/>
            <a:ext cx="8380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621200" y="2361240"/>
            <a:ext cx="31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H="1">
            <a:off x="6629400" y="2590920"/>
            <a:ext cx="838080" cy="152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3B3644-D659-4D18-8A8A-3F4F7A4D53BB}" type="slidenum">
              <a:t>31</a:t>
            </a:fld>
          </a:p>
        </p:txBody>
      </p:sp>
    </p:spTree>
  </p:cSld>
  <p:transition>
    <p:checker dir="horz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"/>
          <p:cNvSpPr/>
          <p:nvPr/>
        </p:nvSpPr>
        <p:spPr>
          <a:xfrm>
            <a:off x="5559840" y="228600"/>
            <a:ext cx="33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reziduumok ellenőrzé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0" y="0"/>
          <a:ext cx="5105520" cy="3828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5105520" cy="382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4038480" y="2514600"/>
          <a:ext cx="4876920" cy="3657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038480" y="2514600"/>
                    <a:ext cx="4876920" cy="365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ED6433-18AD-47CF-B604-2BAFC0A95B2C}" type="slidenum">
              <a:t>32</a:t>
            </a:fld>
          </a:p>
        </p:txBody>
      </p:sp>
    </p:spTree>
  </p:cSld>
  <p:transition>
    <p:checker dir="horz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109600" y="247320"/>
            <a:ext cx="5908680" cy="56988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Hierarchikus osztályozás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990720" y="1143000"/>
            <a:ext cx="6873840" cy="192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5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. pél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Box, Hunter és Hunter (1978)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estékgyári nedvesség-tartalom-meghatározás: 15 gyártott adagból két-két mintát vesznek, mindkettőnek a víztartalmát kétszer-kétszer megméri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2" name=""/>
          <p:cNvGrpSpPr/>
          <p:nvPr/>
        </p:nvGrpSpPr>
        <p:grpSpPr>
          <a:xfrm>
            <a:off x="482760" y="3225960"/>
            <a:ext cx="8026200" cy="2844720"/>
            <a:chOff x="482760" y="3225960"/>
            <a:chExt cx="8026200" cy="2844720"/>
          </a:xfrm>
        </p:grpSpPr>
        <p:sp>
          <p:nvSpPr>
            <p:cNvPr id="253" name=""/>
            <p:cNvSpPr/>
            <p:nvPr/>
          </p:nvSpPr>
          <p:spPr>
            <a:xfrm>
              <a:off x="666720" y="3260880"/>
              <a:ext cx="681732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gyártott adagok         1                   2           …           15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667440" y="3794040"/>
              <a:ext cx="7358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minták                  1        2          3       4      …       29       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90760" y="4861080"/>
              <a:ext cx="779904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elemzés             1   2    3   4      5   6   7   8   …   57  58   59  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974880" y="516564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666360" y="4251240"/>
              <a:ext cx="743040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                            </a:t>
              </a: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(1)     (2)        (1)    (2)     …      (1)       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17680" y="5470560"/>
              <a:ext cx="1839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663480" y="5318280"/>
              <a:ext cx="7741080" cy="45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                       </a:t>
              </a: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(1) (2) (1) (2)  (1) (2) (1) (2) …  (1)  (2) (1)  (2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H="1">
              <a:off x="7089840" y="3660840"/>
              <a:ext cx="22536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H="1">
              <a:off x="2822040" y="4651200"/>
              <a:ext cx="149400" cy="22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H="1">
              <a:off x="3584160" y="4651200"/>
              <a:ext cx="149400" cy="22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H="1">
              <a:off x="4575240" y="4651200"/>
              <a:ext cx="149040" cy="22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H="1">
              <a:off x="5336640" y="4651200"/>
              <a:ext cx="149400" cy="22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H="1">
              <a:off x="6708240" y="4727520"/>
              <a:ext cx="14940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7698960" y="4651200"/>
              <a:ext cx="149400" cy="22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432240" y="3660840"/>
              <a:ext cx="30168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H="1">
              <a:off x="3127320" y="3660840"/>
              <a:ext cx="30168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803840" y="3660840"/>
              <a:ext cx="22536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032440" y="3660840"/>
              <a:ext cx="22536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7318440" y="3660840"/>
              <a:ext cx="30168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75040" y="4651200"/>
              <a:ext cx="149040" cy="22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3736800" y="4651200"/>
              <a:ext cx="149400" cy="22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4803840" y="4651200"/>
              <a:ext cx="149040" cy="22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65600" y="4651200"/>
              <a:ext cx="149400" cy="22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6937200" y="4727520"/>
              <a:ext cx="149400" cy="22536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927920" y="4651200"/>
              <a:ext cx="149400" cy="22572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82760" y="3225960"/>
              <a:ext cx="8026200" cy="2844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1E73F4-29A9-4A78-B011-10F07DE2F197}" type="slidenum">
              <a:t>33</a:t>
            </a:fld>
          </a:p>
        </p:txBody>
      </p:sp>
    </p:spTree>
  </p:cSld>
  <p:transition>
    <p:checker dir="horz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79" name=""/>
          <p:cNvGraphicFramePr/>
          <p:nvPr/>
        </p:nvGraphicFramePr>
        <p:xfrm>
          <a:off x="0" y="1447920"/>
          <a:ext cx="7848720" cy="39621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7848720" cy="39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746280" y="822240"/>
            <a:ext cx="74070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adatok táblázatának egy részle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822240" y="898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2A947-DC68-4FE9-B546-47A1CC4AE96E}" type="slidenum">
              <a:t>34</a:t>
            </a:fld>
          </a:p>
        </p:txBody>
      </p:sp>
    </p:spTree>
  </p:cSld>
  <p:transition>
    <p:checker dir="horz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"/>
          <p:cNvSpPr/>
          <p:nvPr/>
        </p:nvSpPr>
        <p:spPr>
          <a:xfrm>
            <a:off x="835560" y="533520"/>
            <a:ext cx="14148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model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4" name=""/>
              <p:cNvSpPr txBox="1"/>
              <p:nvPr/>
            </p:nvSpPr>
            <p:spPr>
              <a:xfrm>
                <a:off x="2819520" y="533520"/>
                <a:ext cx="319068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(</m:t>
                        </m:r>
                        <m:r>
                          <m:t xml:space="preserve">i</m:t>
                        </m:r>
                        <m:r>
                          <m:t xml:space="preserve">)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k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285" name=""/>
          <p:cNvSpPr/>
          <p:nvPr/>
        </p:nvSpPr>
        <p:spPr>
          <a:xfrm>
            <a:off x="2132640" y="1751400"/>
            <a:ext cx="477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dag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int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nalíz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 flipV="1">
            <a:off x="2666880" y="914400"/>
            <a:ext cx="1371600" cy="8380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4495680" y="1066320"/>
            <a:ext cx="152640" cy="685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 flipH="1" flipV="1">
            <a:off x="5715000" y="1066320"/>
            <a:ext cx="457200" cy="7621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89" name=""/>
              <p:cNvSpPr txBox="1"/>
              <p:nvPr/>
            </p:nvSpPr>
            <p:spPr>
              <a:xfrm>
                <a:off x="1143000" y="2971800"/>
                <a:ext cx="173664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0" name=""/>
              <p:cNvSpPr txBox="1"/>
              <p:nvPr/>
            </p:nvSpPr>
            <p:spPr>
              <a:xfrm>
                <a:off x="3708360" y="2959200"/>
                <a:ext cx="1789200" cy="514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B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B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1" name=""/>
              <p:cNvSpPr txBox="1"/>
              <p:nvPr/>
            </p:nvSpPr>
            <p:spPr>
              <a:xfrm>
                <a:off x="6208560" y="2882880"/>
                <a:ext cx="1970280" cy="514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t xml:space="preserve">k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e>
                        </m:d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e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92" name=""/>
          <p:cNvSpPr/>
          <p:nvPr/>
        </p:nvSpPr>
        <p:spPr>
          <a:xfrm>
            <a:off x="1050120" y="3808800"/>
            <a:ext cx="162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független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5E26A2-1F60-4A88-BD2B-CC92ED7EAA18}" type="slidenum">
              <a:t>35</a:t>
            </a:fld>
          </a:p>
        </p:txBody>
      </p:sp>
    </p:spTree>
  </p:cSld>
  <p:transition>
    <p:checker dir="horz"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3" name=""/>
          <p:cNvGraphicFramePr/>
          <p:nvPr/>
        </p:nvGraphicFramePr>
        <p:xfrm>
          <a:off x="0" y="1295280"/>
          <a:ext cx="9144000" cy="33512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295280"/>
                    <a:ext cx="9144000" cy="33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5" name=""/>
          <p:cNvSpPr/>
          <p:nvPr/>
        </p:nvSpPr>
        <p:spPr>
          <a:xfrm>
            <a:off x="685440" y="457200"/>
            <a:ext cx="276660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z ANOVA-tábláz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380880" y="4800600"/>
                <a:ext cx="148140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A</m:t>
                        </m:r>
                      </m:sup>
                    </m:sSubSup>
                    <m:r>
                      <m:t xml:space="preserve">: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7" name=""/>
              <p:cNvSpPr txBox="1"/>
              <p:nvPr/>
            </p:nvSpPr>
            <p:spPr>
              <a:xfrm>
                <a:off x="2895480" y="4800600"/>
                <a:ext cx="1078200" cy="51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/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B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A</m:t>
                            </m:r>
                          </m:e>
                        </m:d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8" name=""/>
              <p:cNvSpPr txBox="1"/>
              <p:nvPr/>
            </p:nvSpPr>
            <p:spPr>
              <a:xfrm>
                <a:off x="457200" y="5562720"/>
                <a:ext cx="1481040" cy="485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  <m:sup>
                        <m:r>
                          <m:t xml:space="preserve">B</m:t>
                        </m:r>
                      </m:sup>
                    </m:sSubSup>
                    <m:r>
                      <m:t xml:space="preserve">: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9" name=""/>
              <p:cNvSpPr txBox="1"/>
              <p:nvPr/>
            </p:nvSpPr>
            <p:spPr>
              <a:xfrm>
                <a:off x="2819520" y="5562720"/>
                <a:ext cx="1189080" cy="515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sSubSup>
                      <m:e/>
                      <m:sub>
                        <m:r>
                          <m:t xml:space="preserve">B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/</m:t>
                    </m:r>
                    <m:sSubSup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R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0" name=""/>
              <p:cNvSpPr txBox="1"/>
              <p:nvPr/>
            </p:nvSpPr>
            <p:spPr>
              <a:xfrm>
                <a:off x="6019920" y="4419720"/>
                <a:ext cx="199548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q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301" name=""/>
              <p:cNvSpPr txBox="1"/>
              <p:nvPr/>
            </p:nvSpPr>
            <p:spPr>
              <a:xfrm>
                <a:off x="6019920" y="5334120"/>
                <a:ext cx="1995480" cy="911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B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B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A</m:t>
                                </m:r>
                              </m:e>
                            </m:d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  <m:r>
                          <m:t xml:space="preserve">−</m:t>
                        </m:r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302" name=""/>
          <p:cNvSpPr/>
          <p:nvPr/>
        </p:nvSpPr>
        <p:spPr>
          <a:xfrm flipV="1">
            <a:off x="6019920" y="4647960"/>
            <a:ext cx="15228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172200" y="4648320"/>
            <a:ext cx="152280" cy="75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 flipV="1">
            <a:off x="5943600" y="5486400"/>
            <a:ext cx="22860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172200" y="5486400"/>
            <a:ext cx="7632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44AB3-B286-4433-8AD5-61A503A99527}" type="slidenum">
              <a:t>36</a:t>
            </a:fld>
          </a:p>
        </p:txBody>
      </p:sp>
    </p:spTree>
  </p:cSld>
  <p:transition>
    <p:checker dir="horz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06" name=""/>
          <p:cNvGraphicFramePr/>
          <p:nvPr/>
        </p:nvGraphicFramePr>
        <p:xfrm>
          <a:off x="457200" y="990720"/>
          <a:ext cx="8458200" cy="2087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990720"/>
                    <a:ext cx="8458200" cy="2087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08" name=""/>
          <p:cNvGraphicFramePr/>
          <p:nvPr/>
        </p:nvGraphicFramePr>
        <p:xfrm>
          <a:off x="762120" y="3581280"/>
          <a:ext cx="4724280" cy="16970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3581280"/>
                    <a:ext cx="4724280" cy="169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A730D5-3DA8-40C3-8F61-AFF7025B6430}" type="slidenum">
              <a:t>37</a:t>
            </a:fld>
          </a:p>
        </p:txBody>
      </p:sp>
    </p:spTree>
  </p:cSld>
  <p:transition>
    <p:checker dir="horz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240" y="304920"/>
            <a:ext cx="6172200" cy="838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000000"/>
                </a:solidFill>
                <a:latin typeface="Times New Roman"/>
              </a:rPr>
              <a:t>Egy rögzített és két véletlen faktor: latin négyzet</a:t>
            </a:r>
            <a:endParaRPr b="1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" descr=""/>
          <p:cNvPicPr/>
          <p:nvPr/>
        </p:nvPicPr>
        <p:blipFill>
          <a:blip r:embed="rId1"/>
          <a:stretch/>
        </p:blipFill>
        <p:spPr>
          <a:xfrm>
            <a:off x="609480" y="3505320"/>
            <a:ext cx="8077320" cy="2535120"/>
          </a:xfrm>
          <a:prstGeom prst="rect">
            <a:avLst/>
          </a:prstGeom>
          <a:ln w="0">
            <a:noFill/>
          </a:ln>
        </p:spPr>
      </p:pic>
      <p:sp>
        <p:nvSpPr>
          <p:cNvPr id="312" name=""/>
          <p:cNvSpPr/>
          <p:nvPr/>
        </p:nvSpPr>
        <p:spPr>
          <a:xfrm>
            <a:off x="609480" y="1368000"/>
            <a:ext cx="8153640" cy="210564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6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. pél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000000"/>
                </a:solidFill>
                <a:latin typeface="Times New Roman"/>
              </a:rPr>
              <a:t>Box-Hunter-Hunter: Statistics for Experimenters, J. Wiley, 1978, p. 24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Négy benzin-adalékot hasonlítanak össze szennyezés-kibocsátás szempontjából. Gondolni kell az autók és vezetők esetleges különbözőségére is (blokk-faktorok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23480" y="5942520"/>
            <a:ext cx="792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ezető: 1,…,4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utó: I,…,IV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dalék: A, B, C, 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0F8D3B-0936-4AA4-AE3A-F43FF18B7BC3}" type="slidenum">
              <a:t>38</a:t>
            </a:fld>
          </a:p>
        </p:txBody>
      </p:sp>
    </p:spTree>
  </p:cSld>
  <p:transition>
    <p:checker dir="horz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314" name=""/>
              <p:cNvSpPr txBox="1"/>
              <p:nvPr/>
            </p:nvSpPr>
            <p:spPr>
              <a:xfrm>
                <a:off x="1219320" y="914400"/>
                <a:ext cx="33271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g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e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5" name=""/>
          <p:cNvSpPr/>
          <p:nvPr/>
        </p:nvSpPr>
        <p:spPr>
          <a:xfrm>
            <a:off x="385920" y="303840"/>
            <a:ext cx="106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Model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5880600" y="837000"/>
            <a:ext cx="202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ismétlés nélkü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7" name=""/>
              <p:cNvSpPr txBox="1"/>
              <p:nvPr/>
            </p:nvSpPr>
            <p:spPr>
              <a:xfrm>
                <a:off x="914400" y="2590920"/>
                <a:ext cx="67309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y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μ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β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αβ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γ</m:t>
                        </m:r>
                      </m:e>
                      <m:sub>
                        <m:r>
                          <m:t xml:space="preserve">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α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β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αβγ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ε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k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318" name=""/>
          <p:cNvSpPr/>
          <p:nvPr/>
        </p:nvSpPr>
        <p:spPr>
          <a:xfrm>
            <a:off x="611280" y="1904040"/>
            <a:ext cx="383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 teljes modell ilyen lenne: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19" name=""/>
              <p:cNvSpPr txBox="1"/>
              <p:nvPr/>
            </p:nvSpPr>
            <p:spPr>
              <a:xfrm>
                <a:off x="3441600" y="304920"/>
                <a:ext cx="5100840" cy="428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 </m:t>
                    </m:r>
                    <m:r>
                      <m:t xml:space="preserve">j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q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  <m:r>
                      <m:t xml:space="preserve"> </m:t>
                    </m:r>
                    <m:r>
                      <m:t xml:space="preserve">k</m:t>
                    </m:r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,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,</m:t>
                    </m:r>
                    <m:r>
                      <m:t xml:space="preserve">t</m:t>
                    </m:r>
                    <m:r>
                      <m:t xml:space="preserve"> 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4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320" name=""/>
          <p:cNvSpPr/>
          <p:nvPr/>
        </p:nvSpPr>
        <p:spPr>
          <a:xfrm>
            <a:off x="6482520" y="190404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hu-HU" sz="24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kísérle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609480" y="3429000"/>
            <a:ext cx="8077320" cy="2535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589036-49E0-45B0-83B7-344EC0735664}" type="slidenum">
              <a:t>39</a:t>
            </a:fld>
          </a:p>
        </p:txBody>
      </p:sp>
    </p:spTree>
  </p:cSld>
  <p:transition>
    <p:checker dir="horz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4" name=""/>
          <p:cNvGrpSpPr/>
          <p:nvPr/>
        </p:nvGrpSpPr>
        <p:grpSpPr>
          <a:xfrm>
            <a:off x="685440" y="762120"/>
            <a:ext cx="4261320" cy="477720"/>
            <a:chOff x="685440" y="762120"/>
            <a:chExt cx="4261320" cy="477720"/>
          </a:xfrm>
        </p:grpSpPr>
        <mc:AlternateContent>
          <mc:Choice xmlns:a14="http://schemas.microsoft.com/office/drawing/2010/main" Requires="a14">
            <p:sp>
              <p:nvSpPr>
                <p:cNvPr id="55" name=""/>
                <p:cNvSpPr txBox="1"/>
                <p:nvPr/>
              </p:nvSpPr>
              <p:spPr>
                <a:xfrm>
                  <a:off x="2971800" y="762120"/>
                  <a:ext cx="1974960" cy="477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m</m:t>
                      </m:r>
                      <m:r>
                        <m:t xml:space="preserve">+</m:t>
                      </m:r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+</m:t>
                      </m:r>
                      <m:sSub>
                        <m:e>
                          <m:r>
                            <m:t xml:space="preserve">e</m:t>
                          </m:r>
                        </m:e>
                        <m:sub>
                          <m:r>
                            <m:rPr>
                              <m:lit/>
                              <m:nor/>
                            </m:rPr>
                            <m:t xml:space="preserve">ij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p:sp>
          <p:nvSpPr>
            <p:cNvPr id="56" name=""/>
            <p:cNvSpPr/>
            <p:nvPr/>
          </p:nvSpPr>
          <p:spPr>
            <a:xfrm>
              <a:off x="685440" y="762120"/>
              <a:ext cx="1486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A modell: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2438280" y="1416240"/>
            <a:ext cx="6019920" cy="103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</a:t>
            </a:r>
            <a:r>
              <a:rPr b="0" i="1" lang="hu-HU" sz="24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a faktor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edik szintjének (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-edik nap) hatás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hu-HU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közös érték; </a:t>
            </a:r>
            <a:r>
              <a:rPr b="0" i="1" lang="hu-HU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+1 paramét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8" name=""/>
          <p:cNvGrpSpPr/>
          <p:nvPr/>
        </p:nvGrpSpPr>
        <p:grpSpPr>
          <a:xfrm>
            <a:off x="834120" y="2894400"/>
            <a:ext cx="6014160" cy="459720"/>
            <a:chOff x="834120" y="2894400"/>
            <a:chExt cx="6014160" cy="459720"/>
          </a:xfrm>
        </p:grpSpPr>
        <p:sp>
          <p:nvSpPr>
            <p:cNvPr id="59" name=""/>
            <p:cNvSpPr/>
            <p:nvPr/>
          </p:nvSpPr>
          <p:spPr>
            <a:xfrm>
              <a:off x="834120" y="2894400"/>
              <a:ext cx="237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hu-HU" sz="2400" spc="-1" strike="noStrike">
                  <a:solidFill>
                    <a:srgbClr val="000000"/>
                  </a:solidFill>
                  <a:latin typeface="Times New Roman"/>
                </a:rPr>
                <a:t>rögzített faktornál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0" name=""/>
                <p:cNvSpPr txBox="1"/>
                <p:nvPr/>
              </p:nvSpPr>
              <p:spPr>
                <a:xfrm>
                  <a:off x="3876480" y="2895480"/>
                  <a:ext cx="29718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:</m:t>
                      </m:r>
                      <m:r>
                        <m:t xml:space="preserve"> </m:t>
                      </m:r>
                      <m:sSub>
                        <m:e>
                          <m:r>
                            <m:t xml:space="preserve">α</m:t>
                          </m:r>
                        </m:e>
                        <m:sub>
                          <m:r>
                            <m:t xml:space="preserve">i</m:t>
                          </m:r>
                        </m:sub>
                      </m:sSub>
                      <m:r>
                        <m:t xml:space="preserve">=</m:t>
                      </m:r>
                      <m:r>
                        <m:t xml:space="preserve">0</m:t>
                      </m:r>
                      <m:r>
                        <m:t xml:space="preserve">,</m:t>
                      </m:r>
                      <m:r>
                        <m:t xml:space="preserve"> </m:t>
                      </m:r>
                      <m:r>
                        <m:t xml:space="preserve">i</m:t>
                      </m:r>
                      <m:r>
                        <m:t xml:space="preserve">=</m:t>
                      </m:r>
                      <m:r>
                        <m:t xml:space="preserve">1</m:t>
                      </m:r>
                      <m:r>
                        <m:t xml:space="preserve">,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rPr>
                          <m:lit/>
                          <m:nor/>
                        </m:rPr>
                        <m:t xml:space="preserve">.</m:t>
                      </m:r>
                      <m:r>
                        <m:t xml:space="preserve">,</m:t>
                      </m:r>
                      <m:r>
                        <m:t xml:space="preserve">r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61" name=""/>
          <p:cNvSpPr/>
          <p:nvPr/>
        </p:nvSpPr>
        <p:spPr>
          <a:xfrm>
            <a:off x="910800" y="396144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véletlen faktorná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3886200" y="4800600"/>
                <a:ext cx="1150920" cy="43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3" name=""/>
              <p:cNvSpPr txBox="1"/>
              <p:nvPr/>
            </p:nvSpPr>
            <p:spPr>
              <a:xfrm>
                <a:off x="5562720" y="4724280"/>
                <a:ext cx="160164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Var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α</m:t>
                        </m:r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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7162920" y="5410080"/>
                <a:ext cx="1450800" cy="865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r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sSub>
                          <m:e>
                            <m:r>
                              <m:t xml:space="preserve">α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≠</m:t>
                        </m:r>
                        <m:r>
                          <m:t xml:space="preserve">0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5" name=""/>
              <p:cNvSpPr txBox="1"/>
              <p:nvPr/>
            </p:nvSpPr>
            <p:spPr>
              <a:xfrm>
                <a:off x="3886200" y="5410080"/>
                <a:ext cx="14461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p:sp>
        <p:nvSpPr>
          <p:cNvPr id="66" name=""/>
          <p:cNvSpPr/>
          <p:nvPr/>
        </p:nvSpPr>
        <p:spPr>
          <a:xfrm>
            <a:off x="6553080" y="5334120"/>
            <a:ext cx="2286000" cy="11430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"/>
              <p:cNvSpPr txBox="1"/>
              <p:nvPr/>
            </p:nvSpPr>
            <p:spPr>
              <a:xfrm>
                <a:off x="3962520" y="3962520"/>
                <a:ext cx="1736640" cy="488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α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~</m:t>
                    </m:r>
                    <m:r>
                      <m:t xml:space="preserve">N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0</m:t>
                        </m:r>
                        <m:r>
                          <m:t xml:space="preserve">,</m:t>
                        </m:r>
                        <m:sSubSup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600817-FE29-4187-B678-9DEA3E8B2CE3}" type="slidenum">
              <a:t>4</a:t>
            </a:fld>
          </a:p>
        </p:txBody>
      </p:sp>
    </p:spTree>
  </p:cSld>
  <p:transition>
    <p:checker dir="horz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2" name=""/>
          <p:cNvGraphicFramePr/>
          <p:nvPr/>
        </p:nvGraphicFramePr>
        <p:xfrm>
          <a:off x="685800" y="4343400"/>
          <a:ext cx="6095880" cy="18381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4343400"/>
                    <a:ext cx="6095880" cy="1838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24" name=""/>
          <p:cNvGraphicFramePr/>
          <p:nvPr/>
        </p:nvGraphicFramePr>
        <p:xfrm>
          <a:off x="762120" y="1143000"/>
          <a:ext cx="4572000" cy="1676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2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1143000"/>
                    <a:ext cx="4572000" cy="167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6" name=""/>
          <p:cNvSpPr/>
          <p:nvPr/>
        </p:nvSpPr>
        <p:spPr>
          <a:xfrm>
            <a:off x="595080" y="150840"/>
            <a:ext cx="839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tatistics&gt;Industrial Statistics &amp; Six Sigma&gt;Experimental Design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gt;Latin squares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685800" y="2893680"/>
            <a:ext cx="7238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tatistics&gt;Advanced Linear/Nonlinear Models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&gt;General Linear Models&gt;Main effects ANO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Options fülön: Random factors: Driver, Car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gt;All eff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A3F20-B075-48C0-B3CF-C5D163704330}" type="slidenum">
              <a:t>40</a:t>
            </a:fld>
          </a:p>
        </p:txBody>
      </p:sp>
    </p:spTree>
  </p:cSld>
  <p:transition>
    <p:checker dir="horz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28" name=""/>
          <p:cNvGraphicFramePr/>
          <p:nvPr/>
        </p:nvGraphicFramePr>
        <p:xfrm>
          <a:off x="685800" y="2895480"/>
          <a:ext cx="7086600" cy="3463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2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895480"/>
                    <a:ext cx="7086600" cy="346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0" name=""/>
          <p:cNvSpPr/>
          <p:nvPr/>
        </p:nvSpPr>
        <p:spPr>
          <a:xfrm>
            <a:off x="757800" y="2361240"/>
            <a:ext cx="37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Summary fülön: Coeffici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762120" y="228600"/>
          <a:ext cx="4800600" cy="2149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32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228600"/>
                    <a:ext cx="4800600" cy="2149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"/>
          <p:cNvSpPr/>
          <p:nvPr/>
        </p:nvSpPr>
        <p:spPr>
          <a:xfrm>
            <a:off x="6076080" y="501840"/>
            <a:ext cx="2837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rögzített faktorokké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ugyanaz az eredmén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1CEAB4-D12C-4CD6-81D5-7F3A96F5BAE2}" type="slidenum">
              <a:t>41</a:t>
            </a:fld>
          </a:p>
        </p:txBody>
      </p:sp>
    </p:spTree>
  </p:cSld>
  <p:transition>
    <p:checker dir="horz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" name=""/>
          <p:cNvGraphicFramePr/>
          <p:nvPr/>
        </p:nvGraphicFramePr>
        <p:xfrm>
          <a:off x="0" y="914400"/>
          <a:ext cx="9144000" cy="3962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914400"/>
                    <a:ext cx="914400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" name=""/>
          <p:cNvSpPr/>
          <p:nvPr/>
        </p:nvSpPr>
        <p:spPr>
          <a:xfrm>
            <a:off x="458280" y="227520"/>
            <a:ext cx="23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ANOVA-tábláza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1" name=""/>
              <p:cNvSpPr txBox="1"/>
              <p:nvPr/>
            </p:nvSpPr>
            <p:spPr>
              <a:xfrm>
                <a:off x="2286000" y="4724280"/>
                <a:ext cx="1990800" cy="183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f>
                      <m:num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t xml:space="preserve">pσ</m:t>
                                </m:r>
                              </m:e>
                              <m:sub>
                                <m:r>
                                  <m:t xml:space="preserve">A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num>
                      <m:den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r>
                                  <m:t xml:space="preserve">R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Sup>
                              <m:e>
                                <m:r>
                                  <m:t xml:space="preserve">σ</m:t>
                                </m:r>
                              </m:e>
                              <m:sub>
                                <m:r>
                                  <m:t xml:space="preserve">e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den>
                        </m:f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5105520" y="5334120"/>
                <a:ext cx="14461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7162920" y="5105520"/>
                <a:ext cx="1014120" cy="912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304920" y="6019920"/>
            <a:ext cx="99036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58640" y="495180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371600" y="6095880"/>
            <a:ext cx="1523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5181480"/>
            <a:ext cx="11430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6FF7D3-9AEC-4936-A016-F0C656E528DC}" type="slidenum">
              <a:t>5</a:t>
            </a:fld>
          </a:p>
        </p:txBody>
      </p:sp>
    </p:spTree>
  </p:cSld>
  <p:transition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762120" y="457200"/>
            <a:ext cx="79246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Az ANOVA táblázat egy véletlen faktor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4191120"/>
            <a:ext cx="3733920" cy="45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Elfogadjuk a nullhipotézis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"/>
              <p:cNvSpPr txBox="1"/>
              <p:nvPr/>
            </p:nvSpPr>
            <p:spPr>
              <a:xfrm>
                <a:off x="6629400" y="4191120"/>
                <a:ext cx="1446120" cy="48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: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0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6781680" y="5029200"/>
                <a:ext cx="1014480" cy="91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0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num>
                      <m:den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82" name=""/>
          <p:cNvGraphicFramePr/>
          <p:nvPr/>
        </p:nvGraphicFramePr>
        <p:xfrm>
          <a:off x="533520" y="1371600"/>
          <a:ext cx="7543800" cy="1951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33520" y="1371600"/>
                    <a:ext cx="7543800" cy="195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4" name=""/>
          <p:cNvSpPr/>
          <p:nvPr/>
        </p:nvSpPr>
        <p:spPr>
          <a:xfrm>
            <a:off x="1295280" y="2819520"/>
            <a:ext cx="990720" cy="380880"/>
          </a:xfrm>
          <a:prstGeom prst="ellipse">
            <a:avLst/>
          </a:prstGeom>
          <a:noFill/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4A593B-E475-4990-8A2B-7E8C3FF02230}" type="slidenum">
              <a:t>6</a:t>
            </a:fld>
          </a:p>
        </p:txBody>
      </p:sp>
    </p:spTree>
  </p:cSld>
  <p:transition>
    <p:checker dir="horz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-1800" y="1522800"/>
            <a:ext cx="885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Ha a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             hipotézist elutasítjuk, becsülnünk kell a 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  varianciá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6" name=""/>
          <p:cNvGrpSpPr/>
          <p:nvPr/>
        </p:nvGrpSpPr>
        <p:grpSpPr>
          <a:xfrm>
            <a:off x="990720" y="2286000"/>
            <a:ext cx="2065320" cy="939960"/>
            <a:chOff x="990720" y="2286000"/>
            <a:chExt cx="2065320" cy="939960"/>
          </a:xfrm>
        </p:grpSpPr>
        <mc:AlternateContent>
          <mc:Choice xmlns:a14="http://schemas.microsoft.com/office/drawing/2010/main" Requires="a14">
            <p:sp>
              <p:nvSpPr>
                <p:cNvPr id="87" name=""/>
                <p:cNvSpPr txBox="1"/>
                <p:nvPr/>
              </p:nvSpPr>
              <p:spPr>
                <a:xfrm>
                  <a:off x="990720" y="2743200"/>
                  <a:ext cx="206532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sSubSup>
                            <m:e>
                              <m:r>
                                <m:t xml:space="preserve">σ</m:t>
                              </m:r>
                            </m:e>
                            <m:sub>
                              <m:r>
                                <m:t xml:space="preserve">e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+</m:t>
                          </m:r>
                          <m:sSubSup>
                            <m:e>
                              <m:r>
                                <m:t xml:space="preserve">pσ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e>
                      </m:d>
                      <m:r>
                        <m:t xml:space="preserve">=</m:t>
                      </m:r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88" name=""/>
            <p:cNvSpPr/>
            <p:nvPr/>
          </p:nvSpPr>
          <p:spPr>
            <a:xfrm flipV="1">
              <a:off x="990720" y="2286000"/>
              <a:ext cx="758880" cy="225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1676520" y="2286000"/>
              <a:ext cx="758880" cy="22536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5029200" y="2666520"/>
            <a:ext cx="1120680" cy="560880"/>
            <a:chOff x="5029200" y="2666520"/>
            <a:chExt cx="1120680" cy="560880"/>
          </a:xfrm>
        </p:grpSpPr>
        <mc:AlternateContent>
          <mc:Choice xmlns:a14="http://schemas.microsoft.com/office/drawing/2010/main" Requires="a14">
            <p:sp>
              <p:nvSpPr>
                <p:cNvPr id="91" name=""/>
                <p:cNvSpPr txBox="1"/>
                <p:nvPr/>
              </p:nvSpPr>
              <p:spPr>
                <a:xfrm>
                  <a:off x="5105520" y="2743200"/>
                  <a:ext cx="1044360" cy="484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e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sSubSup>
                        <m:e>
                          <m:r>
                            <m:t xml:space="preserve">s</m:t>
                          </m:r>
                        </m:e>
                        <m:sub>
                          <m:r>
                            <m:t xml:space="preserve">R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  <p:sp>
          <p:nvSpPr>
            <p:cNvPr id="92" name=""/>
            <p:cNvSpPr/>
            <p:nvPr/>
          </p:nvSpPr>
          <p:spPr>
            <a:xfrm flipV="1">
              <a:off x="5029200" y="2666520"/>
              <a:ext cx="225360" cy="149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257800" y="2666880"/>
              <a:ext cx="225360" cy="14940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762120" y="3962520"/>
            <a:ext cx="1719000" cy="961920"/>
            <a:chOff x="762120" y="3962520"/>
            <a:chExt cx="1719000" cy="961920"/>
          </a:xfrm>
        </p:grpSpPr>
        <mc:AlternateContent>
          <mc:Choice xmlns:a14="http://schemas.microsoft.com/office/drawing/2010/main" Requires="a14">
            <p:sp>
              <p:nvSpPr>
                <p:cNvPr id="95" name=""/>
                <p:cNvSpPr txBox="1"/>
                <p:nvPr/>
              </p:nvSpPr>
              <p:spPr>
                <a:xfrm>
                  <a:off x="762120" y="4038480"/>
                  <a:ext cx="1719000" cy="885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f>
                        <m:num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A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  <m:r>
                            <m:t xml:space="preserve">−</m:t>
                          </m:r>
                          <m:sSubSup>
                            <m:e>
                              <m:r>
                                <m:t xml:space="preserve">s</m:t>
                              </m:r>
                            </m:e>
                            <m:sub>
                              <m:r>
                                <m:t xml:space="preserve">R</m:t>
                              </m:r>
                            </m:sub>
                            <m:sup>
                              <m:r>
                                <m:t xml:space="preserve">2</m:t>
                              </m:r>
                            </m:sup>
                          </m:sSubSup>
                        </m:num>
                        <m:den>
                          <m:r>
                            <m:t xml:space="preserve">p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  <p:sp>
          <p:nvSpPr>
            <p:cNvPr id="96" name=""/>
            <p:cNvSpPr/>
            <p:nvPr/>
          </p:nvSpPr>
          <p:spPr>
            <a:xfrm flipV="1">
              <a:off x="762120" y="3962520"/>
              <a:ext cx="225360" cy="14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990720" y="3962520"/>
              <a:ext cx="225360" cy="1490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609480" y="457200"/>
                <a:ext cx="222408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A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+</m:t>
                    </m:r>
                    <m:sSubSup>
                      <m:e>
                        <m:r>
                          <m:t xml:space="preserve">pσ</m:t>
                        </m:r>
                      </m:e>
                      <m:sub>
                        <m:r>
                          <m:t xml:space="preserve">A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419720" y="457200"/>
                <a:ext cx="1377720" cy="4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E</m:t>
                    </m:r>
                    <m:d>
                      <m:dPr>
                        <m:begChr m:val="("/>
                        <m:endChr m:val=")"/>
                      </m:dPr>
                      <m:e>
                        <m:sSubSup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R</m:t>
                            </m:r>
                          </m:sub>
                          <m:sup>
                            <m:r>
                              <m:t xml:space="preserve">2</m:t>
                            </m:r>
                          </m:sup>
                        </m:sSubSup>
                      </m:e>
                    </m:d>
                    <m:r>
                      <m:t xml:space="preserve">=</m:t>
                    </m:r>
                    <m:sSubSup>
                      <m:e>
                        <m:r>
                          <m:t xml:space="preserve">σ</m:t>
                        </m:r>
                      </m:e>
                      <m:sub>
                        <m:r>
                          <m:t xml:space="preserve">e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</m:oMath>
                </a14:m>
              </a:p>
            </p:txBody>
          </p:sp>
        </mc:Choice>
        <mc:Fallback/>
      </mc:AlternateContent>
      <p:grpSp>
        <p:nvGrpSpPr>
          <p:cNvPr id="100" name=""/>
          <p:cNvGrpSpPr/>
          <p:nvPr/>
        </p:nvGrpSpPr>
        <p:grpSpPr>
          <a:xfrm>
            <a:off x="685800" y="1523880"/>
            <a:ext cx="6754680" cy="482760"/>
            <a:chOff x="685800" y="1523880"/>
            <a:chExt cx="6754680" cy="482760"/>
          </a:xfrm>
        </p:grpSpPr>
        <mc:AlternateContent>
          <mc:Choice xmlns:a14="http://schemas.microsoft.com/office/drawing/2010/main" Requires="a14">
            <p:sp>
              <p:nvSpPr>
                <p:cNvPr id="101" name=""/>
                <p:cNvSpPr txBox="1"/>
                <p:nvPr/>
              </p:nvSpPr>
              <p:spPr>
                <a:xfrm>
                  <a:off x="685800" y="1523880"/>
                  <a:ext cx="1446120" cy="482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H</m:t>
                          </m:r>
                        </m:e>
                        <m:sub>
                          <m:r>
                            <m:t xml:space="preserve">0</m:t>
                          </m:r>
                        </m:sub>
                      </m:sSub>
                      <m:r>
                        <m:t xml:space="preserve">:</m:t>
                      </m:r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  <m:r>
                        <m:t xml:space="preserve">=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102" name=""/>
                <p:cNvSpPr txBox="1"/>
                <p:nvPr/>
              </p:nvSpPr>
              <p:spPr>
                <a:xfrm>
                  <a:off x="7010280" y="1523880"/>
                  <a:ext cx="430200" cy="457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Sup>
                        <m:e>
                          <m:r>
                            <m:t xml:space="preserve">σ</m:t>
                          </m:r>
                        </m:e>
                        <m:sub>
                          <m:r>
                            <m:t xml:space="preserve">A</m:t>
                          </m:r>
                        </m:sub>
                        <m:sup>
                          <m:r>
                            <m:t xml:space="preserve">2</m:t>
                          </m:r>
                        </m:sup>
                      </m:sSubSup>
                    </m:oMath>
                  </a14:m>
                </a:p>
              </p:txBody>
            </p:sp>
          </mc:Choice>
          <mc:Fallback/>
        </mc:AlternateContent>
      </p:grpSp>
      <p:graphicFrame>
        <p:nvGraphicFramePr>
          <p:cNvPr id="103" name=""/>
          <p:cNvGraphicFramePr/>
          <p:nvPr/>
        </p:nvGraphicFramePr>
        <p:xfrm>
          <a:off x="4267080" y="3962520"/>
          <a:ext cx="4267440" cy="1801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67080" y="3962520"/>
                    <a:ext cx="4267440" cy="180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BD94F9-E027-4A2E-9AB4-3C30539ACA7E}" type="slidenum">
              <a:t>7</a:t>
            </a:fld>
          </a:p>
        </p:txBody>
      </p:sp>
    </p:spTree>
  </p:cSld>
  <p:transition>
    <p:checker dir="horz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762120" y="685800"/>
            <a:ext cx="7315200" cy="3896640"/>
          </a:xfrm>
          <a:prstGeom prst="rect">
            <a:avLst/>
          </a:prstGeom>
          <a:noFill/>
          <a:ln w="507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2</a:t>
            </a: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. példa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800" spc="-1" strike="noStrike">
                <a:solidFill>
                  <a:srgbClr val="000000"/>
                </a:solidFill>
                <a:latin typeface="Times New Roman"/>
              </a:rPr>
              <a:t>Ellenőrző kártya többrétegű ingadozás eseté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400" spc="-1" strike="noStrike">
                <a:solidFill>
                  <a:srgbClr val="000000"/>
                </a:solidFill>
                <a:latin typeface="Times New Roman"/>
              </a:rPr>
              <a:t>Gyógyszergyári ellenőrző laboratóriumban az eljárás stabilitását (időbeli állandóságát) úgy ellenőrzik, hogy egy ismert összetételű minta (ún. ellenőrző minta) hatóanyag-tartalmát havonta mérik, alkalmanként 3 ismétlésse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67197C-66D0-48AB-B86C-C2F88E1FE3A5}" type="slidenum">
              <a:t>8</a:t>
            </a:fld>
          </a:p>
        </p:txBody>
      </p:sp>
    </p:spTree>
  </p:cSld>
  <p:transition>
    <p:checker dir="horz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457200" y="533520"/>
            <a:ext cx="7162920" cy="57909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879A9E-62CF-424F-8439-C0B9488FDCD5}" type="slidenum">
              <a:t>9</a:t>
            </a:fld>
          </a:p>
        </p:txBody>
      </p:sp>
    </p:spTree>
  </p:cSld>
  <p:transition>
    <p:checker dir="horz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16T17:27:07Z</dcterms:created>
  <dc:creator>Kemeny S.</dc:creator>
  <dc:description/>
  <dc:language>en-US</dc:language>
  <cp:lastModifiedBy>Sandor Kemeny</cp:lastModifiedBy>
  <cp:lastPrinted>2004-03-28T17:40:53Z</cp:lastPrinted>
  <dcterms:modified xsi:type="dcterms:W3CDTF">2008-04-14T15:40:21Z</dcterms:modified>
  <cp:revision>228</cp:revision>
  <dc:subject/>
  <dc:title>Folyamatkepessegi elemzes</dc:title>
</cp:coreProperties>
</file>